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AFEFD-0ED1-4BE3-B1D2-3D0DC5A434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important for us: GP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e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make_sweep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ready at the level of GPp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additional tools to write better measurement scri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meta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ongsid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 and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tings of additional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 of voltage di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 of the shirt you are we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thing that might be important for a later interpretation of th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‘t repeat your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bove collected information automa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plot data with correct axes, scaling, labels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data philoso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620720" y="1846440"/>
            <a:ext cx="216000" cy="431640"/>
            <a:chOff x="1620720" y="1846440"/>
            <a:chExt cx="216000" cy="431640"/>
          </a:xfrm>
        </p:grpSpPr>
        <p:sp>
          <p:nvSpPr>
            <p:cNvPr id="69" name=""/>
            <p:cNvSpPr/>
            <p:nvPr/>
          </p:nvSpPr>
          <p:spPr>
            <a:xfrm>
              <a:off x="1620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620720" y="1846440"/>
              <a:ext cx="216000" cy="215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1620720" y="2062080"/>
              <a:ext cx="216000" cy="2160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36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183672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26836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1692360" y="11984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1258560" y="2060280"/>
            <a:ext cx="3618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1917720"/>
            <a:ext cx="72072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10764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10800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8000" y="11984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9440" y="1125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1125360"/>
            <a:ext cx="1425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720" y="20620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2494080"/>
            <a:ext cx="43164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6720" y="270972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16000" y="2709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405080" y="2061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2781360"/>
            <a:ext cx="863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resi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25653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2720" y="191772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32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28720" y="1054080"/>
            <a:ext cx="720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83808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05480" y="812880"/>
            <a:ext cx="27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Voltage source (Kni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1080" y="242244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18560" y="256536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Multimeter (H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659640" y="1700280"/>
          <a:ext cx="2305080" cy="1339920"/>
        </p:xfrm>
        <a:graphic>
          <a:graphicData uri="http://schemas.openxmlformats.org/drawingml/2006/table">
            <a:tbl>
              <a:tblPr/>
              <a:tblGrid>
                <a:gridCol w="474480"/>
                <a:gridCol w="18306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8.193005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7.234130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6.280839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4788000" y="1484280"/>
            <a:ext cx="23749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esist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7280" y="3429000"/>
            <a:ext cx="4284720" cy="34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A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* 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1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88000" y="3429000"/>
            <a:ext cx="435600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Pl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current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resistance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ge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88000" y="692280"/>
            <a:ext cx="253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ns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000 O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measurement/lab-measurement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ter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 p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avaible p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post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-world/ladediagramm_qpc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room for further impro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measurements should be factored out to dedicated classes like Lab::Measurement::Ladediagra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ion of metadata could be automated fur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Lab::VISA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ate pro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safety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s sure that no voltage is changed to f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voltage steps are automatically split into small, slow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Date/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nd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/time column can contain timestamp for every data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 data as function of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s with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igher dimens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race/sweep/line is a “block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 plots, selections of trac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in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‘s far from being complet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ource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Tut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documentation.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bye/goodby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A, GPIB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struments can be connected in various ways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rial port, GPIB, VXI, TCP/IP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PI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hardware and 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PIB (IEEE488): Standard by Hewlett-Pack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layer IEEE488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 layer IEEE48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PI (Standard Commands for Programmable Instru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Instrument Software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XI, GPIB, serial, or computer-based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-VISA library is one implementation of the VISA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software to control instruments in the lab via VIS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.g. voltage sources, multimeter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 to LabView, Gpplu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very different: no GUI, just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78136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design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Flex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any kind of measurement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anything that has GPIB or serial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you never drive voltage sources to fast and destroy your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elp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collect additional information about the data (“metadata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should have to type in additional information only once and then never a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is in Pe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written in Perl and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 used from programs written in Pe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l: interpreted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s on almost every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ly good in reading data files, manipula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to write quick and dirty scripts that get the job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allows to write clean fullsize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=&gt; ideal for experimental phy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d into three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on top of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increasing com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 scripts can be based on any of these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owest layer. It makes the NI-VISA library accessible from perl and therefor allows to make any standard VISA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Instru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ckage makes communication with instruments easier by silently handling the protocol inv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Too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highest abstraction layer. Provides support for writing good measurement scripts. Offers means of saving data and related meta information to disk, plot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79360" y="743040"/>
            <a:ext cx="678348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visa/raw_visa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s like example programs from man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col overhead is pain in the n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query_id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nic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6T13:00:06Z</dcterms:created>
  <dc:creator>Daniel Schröer</dc:creator>
  <dc:description/>
  <dc:language>en-US</dc:language>
  <cp:lastModifiedBy>Daniel Schröer</cp:lastModifiedBy>
  <dcterms:modified xsi:type="dcterms:W3CDTF">2006-10-07T19:03:45Z</dcterms:modified>
  <cp:revision>85</cp:revision>
  <dc:subject/>
  <dc:title>Folie 1</dc:title>
</cp:coreProperties>
</file>