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lang="en-US" sz="2900" spc="-1" strike="noStrike">
                <a:solidFill>
                  <a:srgbClr val="f6bf6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Virtuell Macintosh för öppna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178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åter dig köra Macintosh®-program på din SPARC-arbetsstation med Solaris 2.3 eller 2.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ger komplett System 7.1-miljö, inklusive Find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ger AppleTalk-stöd, prestandaförbättringar, Mac TCP, ljud och mycket 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2828880"/>
            <a:ext cx="39574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m MAE 2.0, finns på MAE Web på URL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h på MAE ftp på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support.apple.com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/pub/mae-katalogen). Ett testexemplar av MAE 1.0 finns på SunSoft Catalyst CDWare™ för SPARC®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5442120"/>
            <a:ext cx="373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,  kontakta närmast Apple-återförsälj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24320" y="1484280"/>
            <a:ext cx="37339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29280" y="1584360"/>
            <a:ext cx="38354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E finns bara på engelska men stöder lokaliserade versioner av Macintosh-prog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