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76520" y="781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ML, HTML and All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76520" y="2362320"/>
            <a:ext cx="701028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do they Mean, and Why are they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n G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e for Academic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978-4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ian.graham@utoronto.c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http://www.utoronto.ca/ian/talk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ut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2038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The birth of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Why HTML wa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 for data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Examples of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Some thoughts for the 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First Idea: Back to 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ince HTML is defined using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GML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nda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neraliz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rk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eta-langu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or defin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mplex, sophisticated,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21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.. U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GM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Didn’t fly becaus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GML to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GML rules to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ri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o ‘loosely’ formatted data  (like 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ot good in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istribu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an’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different data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an’t add arbitrary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06440" y="228600"/>
            <a:ext cx="8356680" cy="11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Idea 2 -- XML:</a:t>
            </a: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eXtensible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simpler language based on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n u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to define new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s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easily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i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different types of data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an easily add new tags, and tell a browser what to do with them (more or less.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 XML Tag Syntax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ags written as with HTML, but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21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ase-sensitiv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ways ne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nd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pecial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mpty-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way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ttribu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21520" y="3124080"/>
            <a:ext cx="2922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&gt;....&lt;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eBreak 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g id=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3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124080"/>
            <a:ext cx="2133720" cy="609840"/>
          </a:xfrm>
          <a:prstGeom prst="line">
            <a:avLst/>
          </a:prstGeom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3124080"/>
            <a:ext cx="1752840" cy="609840"/>
          </a:xfrm>
          <a:prstGeom prst="line">
            <a:avLst/>
          </a:prstGeom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ML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86040"/>
            <a:ext cx="81788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  <a:ea typeface="Tahoma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tml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  <a:ea typeface="Tahoma"/>
              </a:rPr>
              <a:t>xmlns="http://www.w3.org/TR/xhtml1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title&gt; Title of text XHTML Document 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head&gt;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div class="myDiv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1&gt; Heading of Page 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p&gt;And here is another paragraph, this one  containing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img  src="image.gif" alt="waste of time"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Tahoma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line image, and a &lt;br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Tahoma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line break.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Tahoma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div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248520" y="4876920"/>
            <a:ext cx="685800" cy="990360"/>
          </a:xfrm>
          <a:prstGeom prst="line">
            <a:avLst/>
          </a:prstGeom>
          <a:ln w="255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191120" y="5257800"/>
            <a:ext cx="1371600" cy="685800"/>
          </a:xfrm>
          <a:prstGeom prst="line">
            <a:avLst/>
          </a:prstGeom>
          <a:ln w="255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5943600"/>
            <a:ext cx="1469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XML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867280" y="5257800"/>
            <a:ext cx="381240" cy="609480"/>
          </a:xfrm>
          <a:prstGeom prst="line">
            <a:avLst/>
          </a:prstGeom>
          <a:ln w="255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XML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886040"/>
            <a:ext cx="8178840" cy="43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&lt;?xml version=“1.0” encoding=“iso-8859-1” ?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ays that this is an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html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xmlns=“http://www.w3.org/TR/xhtml1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ays that the meaning of the tags inside (and including)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element belong in the same “space” of names.</a:t>
            </a:r>
            <a:br>
              <a:rPr sz="24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ml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ZapfDingbats"/>
                <a:ea typeface="ZapfDingbats"/>
              </a:rPr>
              <a:t>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XML namesp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ut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Web history and the birth of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Why HTML wa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XML model for data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Examples of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Some thoughts for the 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volution of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any XML languages for different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ath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-- for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M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-- for synchronised 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XHT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-- XML-ized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D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-- for describing “thing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E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-- Historical ev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... and many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MathML: Math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esigned to expres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ayo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of m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21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so can expres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21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ut &amp; paste into Maple, Mathe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18080" y="1881360"/>
            <a:ext cx="4022640" cy="4727520"/>
          </a:xfrm>
          <a:prstGeom prst="rect">
            <a:avLst/>
          </a:prstGeom>
          <a:noFill/>
          <a:ln w="12600">
            <a:solidFill>
              <a:srgbClr val="ff66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+ 4x + 4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athml xmlns=“</a:t>
            </a:r>
            <a:r>
              <a:rPr b="0" lang="en-US" sz="1400" spc="-1" strike="noStrike">
                <a:solidFill>
                  <a:srgbClr val="ff6600"/>
                </a:solidFill>
                <a:latin typeface="Tahoma"/>
                <a:ea typeface="Tahoma"/>
              </a:rPr>
              <a:t>http://www.w3.org/TR/math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row&gt;&lt;mrow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sup&gt; &lt;mi&gt;x&lt;/mi&gt; &lt;mn&gt;2&lt;/mn&gt; &lt;/msup&gt; &lt;mo&gt;+&lt;/m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row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n&gt;4&lt;/m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o&gt;&amp;invisibletimes;&lt;/m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i&gt;x&lt;/mi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/mrow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o&gt;+&lt;/m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n&gt;4&lt;/m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/mrow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o&gt;=&lt;/m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mn&gt;0&lt;/mn&gt; &lt;/mrow&gt;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2209680"/>
            <a:ext cx="0" cy="365760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birth of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hy HTML wa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 for data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Examples of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ome thoughts for th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HTML: NextGen 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76520"/>
            <a:ext cx="8178840" cy="514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Tahoma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tml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Tahoma"/>
              </a:rPr>
              <a:t>xmlns="http://www.w3.org/TR/xhtml1"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title&gt; Title of text XHTML Document 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div class="myDiv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1&gt; Heading of Page 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p&gt; here is a paragraph of text. I will include  inside this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 bunch of wonky text so that it looks fancy. 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p&gt;Here is another paragraph with  &lt;em&gt;inline emphasized&lt;/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ext, and &lt;b&gt; absolutely no&lt;/b&gt; sense of humor. 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p&gt;And another paragraph, this one  with an &lt;img src="image.gif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lt="waste of time"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Tahoma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image, and a &lt;br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Tahoma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line break. 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div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Just like HTML, but with XML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 model, however, support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tegr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different data / languages inside a single XM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HTML and other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52480"/>
            <a:ext cx="8178840" cy="48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Tahoma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tml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Tahoma"/>
              </a:rPr>
              <a:t>xmlns="http://www.w3.org/TR/xhtml1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title&gt; Title of XHTML Document 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head&gt;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div class="myDiv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h1&gt; Heading of Page 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ahoma"/>
              </a:rPr>
              <a:t>&lt;mathml xmlns=“http://www.w3.org/TR/mathml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ahoma"/>
              </a:rPr>
              <a:t>          … </a:t>
            </a: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ahoma"/>
              </a:rPr>
              <a:t>MathML markup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ahoma"/>
              </a:rPr>
              <a:t>    </a:t>
            </a: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ahoma"/>
              </a:rPr>
              <a:t>&lt;/math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p&gt; more html stuff goes here 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Tahoma"/>
              </a:rPr>
              <a:t>&lt;smil xmlns=“http://www.w3.org/TR/smil1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Tahoma"/>
              </a:rPr>
              <a:t>          …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Tahoma"/>
              </a:rPr>
              <a:t>SMIL markup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Tahoma"/>
              </a:rPr>
              <a:t>    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Tahoma"/>
              </a:rPr>
              <a:t>&lt;/sm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&lt;/div&gt; 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Displaying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ore complicated than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XML only represents a data structure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w it l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e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xtra instruc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(a “style sheet” document) to define how things should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e example pages on associated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4120" y="5557680"/>
            <a:ext cx="5114880" cy="923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6840" y="2620800"/>
            <a:ext cx="1628640" cy="10620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91320" y="2697120"/>
            <a:ext cx="1628640" cy="10620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355840" y="2127240"/>
            <a:ext cx="1492200" cy="124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u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19520" y="214200"/>
            <a:ext cx="1781280" cy="7905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6200" y="304920"/>
            <a:ext cx="1460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87640" y="98280"/>
            <a:ext cx="1616400" cy="3429360"/>
          </a:xfrm>
          <a:custGeom>
            <a:avLst/>
            <a:gdLst/>
            <a:ahLst/>
            <a:rect l="0" t="0" r="r" b="b"/>
            <a:pathLst>
              <a:path fill="none" w="4490" h="9526">
                <a:moveTo>
                  <a:pt x="4490" y="0"/>
                </a:moveTo>
                <a:lnTo>
                  <a:pt x="4477" y="449"/>
                </a:lnTo>
                <a:lnTo>
                  <a:pt x="4440" y="888"/>
                </a:lnTo>
                <a:lnTo>
                  <a:pt x="4377" y="1328"/>
                </a:lnTo>
                <a:lnTo>
                  <a:pt x="4296" y="1749"/>
                </a:lnTo>
                <a:lnTo>
                  <a:pt x="4194" y="2161"/>
                </a:lnTo>
                <a:lnTo>
                  <a:pt x="4074" y="2554"/>
                </a:lnTo>
                <a:lnTo>
                  <a:pt x="3939" y="2928"/>
                </a:lnTo>
                <a:lnTo>
                  <a:pt x="3787" y="3274"/>
                </a:lnTo>
                <a:lnTo>
                  <a:pt x="3623" y="3602"/>
                </a:lnTo>
                <a:lnTo>
                  <a:pt x="3448" y="3882"/>
                </a:lnTo>
                <a:lnTo>
                  <a:pt x="3068" y="4350"/>
                </a:lnTo>
                <a:lnTo>
                  <a:pt x="2869" y="4528"/>
                </a:lnTo>
                <a:lnTo>
                  <a:pt x="2663" y="4659"/>
                </a:lnTo>
                <a:lnTo>
                  <a:pt x="2455" y="4743"/>
                </a:lnTo>
                <a:lnTo>
                  <a:pt x="2244" y="4762"/>
                </a:lnTo>
                <a:lnTo>
                  <a:pt x="2034" y="4791"/>
                </a:lnTo>
                <a:lnTo>
                  <a:pt x="1824" y="4866"/>
                </a:lnTo>
                <a:lnTo>
                  <a:pt x="1621" y="4997"/>
                </a:lnTo>
                <a:lnTo>
                  <a:pt x="1419" y="5175"/>
                </a:lnTo>
                <a:lnTo>
                  <a:pt x="1041" y="5643"/>
                </a:lnTo>
                <a:lnTo>
                  <a:pt x="864" y="5933"/>
                </a:lnTo>
                <a:lnTo>
                  <a:pt x="702" y="6251"/>
                </a:lnTo>
                <a:lnTo>
                  <a:pt x="550" y="6597"/>
                </a:lnTo>
                <a:lnTo>
                  <a:pt x="413" y="6971"/>
                </a:lnTo>
                <a:lnTo>
                  <a:pt x="293" y="7364"/>
                </a:lnTo>
                <a:lnTo>
                  <a:pt x="191" y="7776"/>
                </a:lnTo>
                <a:lnTo>
                  <a:pt x="110" y="8197"/>
                </a:lnTo>
                <a:lnTo>
                  <a:pt x="49" y="8637"/>
                </a:lnTo>
                <a:lnTo>
                  <a:pt x="12" y="9086"/>
                </a:lnTo>
                <a:lnTo>
                  <a:pt x="0" y="952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403200"/>
            <a:ext cx="1692720" cy="2895840"/>
          </a:xfrm>
          <a:custGeom>
            <a:avLst/>
            <a:gdLst/>
            <a:ahLst/>
            <a:rect l="0" t="0" r="r" b="b"/>
            <a:pathLst>
              <a:path fill="none" w="4702" h="8044">
                <a:moveTo>
                  <a:pt x="0" y="0"/>
                </a:moveTo>
                <a:lnTo>
                  <a:pt x="12" y="377"/>
                </a:lnTo>
                <a:lnTo>
                  <a:pt x="51" y="754"/>
                </a:lnTo>
                <a:lnTo>
                  <a:pt x="115" y="1116"/>
                </a:lnTo>
                <a:lnTo>
                  <a:pt x="201" y="1478"/>
                </a:lnTo>
                <a:lnTo>
                  <a:pt x="306" y="1825"/>
                </a:lnTo>
                <a:lnTo>
                  <a:pt x="432" y="2157"/>
                </a:lnTo>
                <a:lnTo>
                  <a:pt x="577" y="2474"/>
                </a:lnTo>
                <a:lnTo>
                  <a:pt x="734" y="2769"/>
                </a:lnTo>
                <a:lnTo>
                  <a:pt x="904" y="3040"/>
                </a:lnTo>
                <a:lnTo>
                  <a:pt x="1090" y="3282"/>
                </a:lnTo>
                <a:lnTo>
                  <a:pt x="1284" y="3501"/>
                </a:lnTo>
                <a:lnTo>
                  <a:pt x="1488" y="3682"/>
                </a:lnTo>
                <a:lnTo>
                  <a:pt x="1696" y="3825"/>
                </a:lnTo>
                <a:lnTo>
                  <a:pt x="1913" y="3938"/>
                </a:lnTo>
                <a:lnTo>
                  <a:pt x="2129" y="4006"/>
                </a:lnTo>
                <a:lnTo>
                  <a:pt x="2351" y="4030"/>
                </a:lnTo>
                <a:lnTo>
                  <a:pt x="2570" y="4052"/>
                </a:lnTo>
                <a:lnTo>
                  <a:pt x="2789" y="4113"/>
                </a:lnTo>
                <a:lnTo>
                  <a:pt x="3003" y="4226"/>
                </a:lnTo>
                <a:lnTo>
                  <a:pt x="3212" y="4377"/>
                </a:lnTo>
                <a:lnTo>
                  <a:pt x="3415" y="4558"/>
                </a:lnTo>
                <a:lnTo>
                  <a:pt x="3610" y="4769"/>
                </a:lnTo>
                <a:lnTo>
                  <a:pt x="3795" y="5011"/>
                </a:lnTo>
                <a:lnTo>
                  <a:pt x="3965" y="5282"/>
                </a:lnTo>
                <a:lnTo>
                  <a:pt x="4125" y="5577"/>
                </a:lnTo>
                <a:lnTo>
                  <a:pt x="4267" y="5893"/>
                </a:lnTo>
                <a:lnTo>
                  <a:pt x="4393" y="6225"/>
                </a:lnTo>
                <a:lnTo>
                  <a:pt x="4499" y="6572"/>
                </a:lnTo>
                <a:lnTo>
                  <a:pt x="4584" y="6927"/>
                </a:lnTo>
                <a:lnTo>
                  <a:pt x="4648" y="7297"/>
                </a:lnTo>
                <a:lnTo>
                  <a:pt x="4687" y="7674"/>
                </a:lnTo>
                <a:lnTo>
                  <a:pt x="4702" y="8044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438280" y="129528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791320" y="144792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657600"/>
            <a:ext cx="2057400" cy="1828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86400" y="3733920"/>
            <a:ext cx="1981080" cy="1828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59000" y="5715000"/>
            <a:ext cx="415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ered / displaye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355840" y="3727440"/>
            <a:ext cx="1695600" cy="696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yle sheet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81080" y="27432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1080" y="36576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175360" y="2127240"/>
            <a:ext cx="1251000" cy="1216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u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743360" y="3727440"/>
            <a:ext cx="1517760" cy="941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S and/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SL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e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91200" y="3505320"/>
            <a:ext cx="366480" cy="457200"/>
            <a:chOff x="6091200" y="3505320"/>
            <a:chExt cx="366480" cy="457200"/>
          </a:xfrm>
        </p:grpSpPr>
        <p:sp>
          <p:nvSpPr>
            <p:cNvPr id="174" name=""/>
            <p:cNvSpPr/>
            <p:nvPr/>
          </p:nvSpPr>
          <p:spPr>
            <a:xfrm>
              <a:off x="6091200" y="3576600"/>
              <a:ext cx="31428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095880" y="350532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205000" y="3429000"/>
            <a:ext cx="366480" cy="457200"/>
            <a:chOff x="2205000" y="3429000"/>
            <a:chExt cx="366480" cy="457200"/>
          </a:xfrm>
        </p:grpSpPr>
        <p:sp>
          <p:nvSpPr>
            <p:cNvPr id="177" name=""/>
            <p:cNvSpPr/>
            <p:nvPr/>
          </p:nvSpPr>
          <p:spPr>
            <a:xfrm>
              <a:off x="2205000" y="3500280"/>
              <a:ext cx="31428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209680" y="34290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 txBox="1"/>
          <p:nvPr/>
        </p:nvSpPr>
        <p:spPr>
          <a:xfrm>
            <a:off x="7385040" y="4124160"/>
            <a:ext cx="1504800" cy="124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spac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ru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77160" y="3962520"/>
            <a:ext cx="366840" cy="457200"/>
            <a:chOff x="8777160" y="3962520"/>
            <a:chExt cx="366840" cy="457200"/>
          </a:xfrm>
        </p:grpSpPr>
        <p:sp>
          <p:nvSpPr>
            <p:cNvPr id="181" name=""/>
            <p:cNvSpPr/>
            <p:nvPr/>
          </p:nvSpPr>
          <p:spPr>
            <a:xfrm>
              <a:off x="8777160" y="4033800"/>
              <a:ext cx="31428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8782200" y="396252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V="1">
            <a:off x="6400800" y="3657600"/>
            <a:ext cx="3049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28195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8001000" y="37339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06440" y="22860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 Use: Data 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 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for data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achines exchange data as XM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liminates proprietary base-level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ots of XML processing softw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Resource/Rich Sit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2514600"/>
            <a:ext cx="817884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ol for distributing news hea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Used by many news services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etscape Web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eerkat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ttp://www.oreillynet.com/meerkat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lashdot (http://www.slashdot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over (http://www.moreover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1752480"/>
            <a:ext cx="1657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RSS 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98280"/>
            <a:ext cx="748044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990720" y="1523880"/>
            <a:ext cx="7537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rss version="0.9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chann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title&gt;Actualités Netscape&lt;/titl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link&gt;http://home.netscape.com/fr/netscape&lt;/link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description&gt;Actualité Netscape - À la une&lt;/descriptio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language&gt;fr&lt;/languag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imag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title&gt;Netscape Netcenter&lt;/titl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link&gt;http://home.netscape.com/fr&lt;/link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url&gt;http://home.netscape.com/images/nnc_lockup.gif&lt;/url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width&gt;123&lt;/wid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height&gt;33&lt;/heigh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/imag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RS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7400" y="2438280"/>
            <a:ext cx="5258160" cy="546480"/>
          </a:xfrm>
          <a:custGeom>
            <a:avLst/>
            <a:gdLst/>
            <a:ahLst/>
            <a:rect l="0" t="0" r="r" b="b"/>
            <a:pathLst>
              <a:path fill="none" w="14606" h="1518">
                <a:moveTo>
                  <a:pt x="0" y="1518"/>
                </a:moveTo>
                <a:lnTo>
                  <a:pt x="1256" y="1134"/>
                </a:lnTo>
                <a:lnTo>
                  <a:pt x="2517" y="772"/>
                </a:lnTo>
                <a:lnTo>
                  <a:pt x="3792" y="460"/>
                </a:lnTo>
                <a:lnTo>
                  <a:pt x="5075" y="227"/>
                </a:lnTo>
                <a:lnTo>
                  <a:pt x="6407" y="89"/>
                </a:lnTo>
                <a:lnTo>
                  <a:pt x="7775" y="17"/>
                </a:lnTo>
                <a:lnTo>
                  <a:pt x="9115" y="0"/>
                </a:lnTo>
                <a:lnTo>
                  <a:pt x="9755" y="4"/>
                </a:lnTo>
                <a:lnTo>
                  <a:pt x="10368" y="17"/>
                </a:lnTo>
                <a:lnTo>
                  <a:pt x="11514" y="71"/>
                </a:lnTo>
                <a:lnTo>
                  <a:pt x="12586" y="169"/>
                </a:lnTo>
                <a:lnTo>
                  <a:pt x="13604" y="298"/>
                </a:lnTo>
                <a:lnTo>
                  <a:pt x="14606" y="442"/>
                </a:lnTo>
              </a:path>
            </a:pathLst>
          </a:custGeom>
          <a:ln w="25560">
            <a:solidFill>
              <a:srgbClr val="ff0000"/>
            </a:solidFill>
            <a:custDash>
              <a:ds d="198592" sp="198592"/>
            </a:custDash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Generic XML Messag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38320" y="2585880"/>
            <a:ext cx="847800" cy="10764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3480" y="5100480"/>
            <a:ext cx="847800" cy="10764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62800" y="2205000"/>
            <a:ext cx="847800" cy="10764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29280" y="3652920"/>
            <a:ext cx="847800" cy="10764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73400"/>
            <a:ext cx="5258160" cy="546480"/>
          </a:xfrm>
          <a:custGeom>
            <a:avLst/>
            <a:gdLst/>
            <a:ahLst/>
            <a:rect l="0" t="0" r="r" b="b"/>
            <a:pathLst>
              <a:path fill="none" w="14606" h="1518">
                <a:moveTo>
                  <a:pt x="0" y="1518"/>
                </a:moveTo>
                <a:lnTo>
                  <a:pt x="1256" y="1130"/>
                </a:lnTo>
                <a:lnTo>
                  <a:pt x="2517" y="775"/>
                </a:lnTo>
                <a:lnTo>
                  <a:pt x="3792" y="468"/>
                </a:lnTo>
                <a:lnTo>
                  <a:pt x="5075" y="235"/>
                </a:lnTo>
                <a:lnTo>
                  <a:pt x="6407" y="88"/>
                </a:lnTo>
                <a:lnTo>
                  <a:pt x="7775" y="17"/>
                </a:lnTo>
                <a:lnTo>
                  <a:pt x="9115" y="0"/>
                </a:lnTo>
                <a:lnTo>
                  <a:pt x="9755" y="4"/>
                </a:lnTo>
                <a:lnTo>
                  <a:pt x="10368" y="17"/>
                </a:lnTo>
                <a:lnTo>
                  <a:pt x="11514" y="71"/>
                </a:lnTo>
                <a:lnTo>
                  <a:pt x="12586" y="173"/>
                </a:lnTo>
                <a:lnTo>
                  <a:pt x="13604" y="306"/>
                </a:lnTo>
                <a:lnTo>
                  <a:pt x="14606" y="450"/>
                </a:lnTo>
              </a:path>
            </a:pathLst>
          </a:custGeom>
          <a:ln w="25560">
            <a:solidFill>
              <a:srgbClr val="009999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352680"/>
            <a:ext cx="4038840" cy="2134080"/>
          </a:xfrm>
          <a:custGeom>
            <a:avLst/>
            <a:gdLst/>
            <a:ahLst/>
            <a:rect l="0" t="0" r="r" b="b"/>
            <a:pathLst>
              <a:path fill="none" w="11219" h="5928">
                <a:moveTo>
                  <a:pt x="0" y="0"/>
                </a:moveTo>
                <a:lnTo>
                  <a:pt x="851" y="1164"/>
                </a:lnTo>
                <a:lnTo>
                  <a:pt x="1270" y="1729"/>
                </a:lnTo>
                <a:lnTo>
                  <a:pt x="1697" y="2267"/>
                </a:lnTo>
                <a:lnTo>
                  <a:pt x="2121" y="2774"/>
                </a:lnTo>
                <a:lnTo>
                  <a:pt x="2540" y="3242"/>
                </a:lnTo>
                <a:lnTo>
                  <a:pt x="2967" y="3661"/>
                </a:lnTo>
                <a:lnTo>
                  <a:pt x="3391" y="4018"/>
                </a:lnTo>
                <a:lnTo>
                  <a:pt x="3805" y="4313"/>
                </a:lnTo>
                <a:lnTo>
                  <a:pt x="4211" y="4544"/>
                </a:lnTo>
                <a:lnTo>
                  <a:pt x="4612" y="4724"/>
                </a:lnTo>
                <a:lnTo>
                  <a:pt x="5018" y="4870"/>
                </a:lnTo>
                <a:lnTo>
                  <a:pt x="5857" y="5082"/>
                </a:lnTo>
                <a:lnTo>
                  <a:pt x="6302" y="5183"/>
                </a:lnTo>
                <a:lnTo>
                  <a:pt x="6778" y="5289"/>
                </a:lnTo>
                <a:lnTo>
                  <a:pt x="7801" y="5500"/>
                </a:lnTo>
                <a:lnTo>
                  <a:pt x="8899" y="5668"/>
                </a:lnTo>
                <a:lnTo>
                  <a:pt x="10050" y="5805"/>
                </a:lnTo>
                <a:lnTo>
                  <a:pt x="11219" y="5928"/>
                </a:lnTo>
              </a:path>
            </a:pathLst>
          </a:custGeom>
          <a:ln w="25560">
            <a:solidFill>
              <a:srgbClr val="009999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124080"/>
            <a:ext cx="4724640" cy="838440"/>
          </a:xfrm>
          <a:custGeom>
            <a:avLst/>
            <a:gdLst/>
            <a:ahLst/>
            <a:rect l="0" t="0" r="r" b="b"/>
            <a:pathLst>
              <a:path fill="none" w="13124" h="2329">
                <a:moveTo>
                  <a:pt x="0" y="0"/>
                </a:moveTo>
                <a:lnTo>
                  <a:pt x="939" y="251"/>
                </a:lnTo>
                <a:lnTo>
                  <a:pt x="1437" y="379"/>
                </a:lnTo>
                <a:lnTo>
                  <a:pt x="1971" y="508"/>
                </a:lnTo>
                <a:lnTo>
                  <a:pt x="2544" y="640"/>
                </a:lnTo>
                <a:lnTo>
                  <a:pt x="3183" y="773"/>
                </a:lnTo>
                <a:lnTo>
                  <a:pt x="3880" y="914"/>
                </a:lnTo>
                <a:lnTo>
                  <a:pt x="4656" y="1055"/>
                </a:lnTo>
                <a:lnTo>
                  <a:pt x="5516" y="1207"/>
                </a:lnTo>
                <a:lnTo>
                  <a:pt x="6455" y="1357"/>
                </a:lnTo>
                <a:lnTo>
                  <a:pt x="7466" y="1516"/>
                </a:lnTo>
                <a:lnTo>
                  <a:pt x="8533" y="1671"/>
                </a:lnTo>
                <a:lnTo>
                  <a:pt x="9640" y="1834"/>
                </a:lnTo>
                <a:lnTo>
                  <a:pt x="10782" y="1997"/>
                </a:lnTo>
                <a:lnTo>
                  <a:pt x="13124" y="2329"/>
                </a:lnTo>
              </a:path>
            </a:pathLst>
          </a:custGeom>
          <a:ln w="25560">
            <a:solidFill>
              <a:srgbClr val="009999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14320" y="198108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/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13520" y="175248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/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529320" y="32004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/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843520" y="464832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/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76720" y="1752480"/>
            <a:ext cx="2165400" cy="11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Place order </a:t>
            </a:r>
            <a:r>
              <a:rPr b="1" lang="en-US" sz="2400" spc="-1" strike="noStrike">
                <a:solidFill>
                  <a:srgbClr val="009999"/>
                </a:solidFill>
                <a:latin typeface="Symbol"/>
                <a:ea typeface="Symbo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request/s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13040" y="525780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276720"/>
            <a:ext cx="4724640" cy="838440"/>
          </a:xfrm>
          <a:custGeom>
            <a:avLst/>
            <a:gdLst/>
            <a:ahLst/>
            <a:rect l="0" t="0" r="r" b="b"/>
            <a:pathLst>
              <a:path fill="none" w="13124" h="2329">
                <a:moveTo>
                  <a:pt x="0" y="0"/>
                </a:moveTo>
                <a:lnTo>
                  <a:pt x="939" y="250"/>
                </a:lnTo>
                <a:lnTo>
                  <a:pt x="1437" y="382"/>
                </a:lnTo>
                <a:lnTo>
                  <a:pt x="1971" y="510"/>
                </a:lnTo>
                <a:lnTo>
                  <a:pt x="2544" y="638"/>
                </a:lnTo>
                <a:lnTo>
                  <a:pt x="3183" y="774"/>
                </a:lnTo>
                <a:lnTo>
                  <a:pt x="3880" y="915"/>
                </a:lnTo>
                <a:lnTo>
                  <a:pt x="4656" y="1060"/>
                </a:lnTo>
                <a:lnTo>
                  <a:pt x="5516" y="1206"/>
                </a:lnTo>
                <a:lnTo>
                  <a:pt x="6455" y="1356"/>
                </a:lnTo>
                <a:lnTo>
                  <a:pt x="7466" y="1515"/>
                </a:lnTo>
                <a:lnTo>
                  <a:pt x="8533" y="1673"/>
                </a:lnTo>
                <a:lnTo>
                  <a:pt x="9640" y="1836"/>
                </a:lnTo>
                <a:lnTo>
                  <a:pt x="10782" y="1999"/>
                </a:lnTo>
                <a:lnTo>
                  <a:pt x="13124" y="2329"/>
                </a:lnTo>
              </a:path>
            </a:pathLst>
          </a:custGeom>
          <a:ln w="25560">
            <a:solidFill>
              <a:srgbClr val="ff0000"/>
            </a:solidFill>
            <a:custDash>
              <a:ds d="198592" sp="198592"/>
            </a:custDash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505320"/>
            <a:ext cx="4038840" cy="2134080"/>
          </a:xfrm>
          <a:custGeom>
            <a:avLst/>
            <a:gdLst/>
            <a:ahLst/>
            <a:rect l="0" t="0" r="r" b="b"/>
            <a:pathLst>
              <a:path fill="none" w="11219" h="5928">
                <a:moveTo>
                  <a:pt x="0" y="0"/>
                </a:moveTo>
                <a:lnTo>
                  <a:pt x="851" y="1168"/>
                </a:lnTo>
                <a:lnTo>
                  <a:pt x="1270" y="1734"/>
                </a:lnTo>
                <a:lnTo>
                  <a:pt x="1697" y="2272"/>
                </a:lnTo>
                <a:lnTo>
                  <a:pt x="2121" y="2779"/>
                </a:lnTo>
                <a:lnTo>
                  <a:pt x="2540" y="3246"/>
                </a:lnTo>
                <a:lnTo>
                  <a:pt x="2967" y="3665"/>
                </a:lnTo>
                <a:lnTo>
                  <a:pt x="3391" y="4027"/>
                </a:lnTo>
                <a:lnTo>
                  <a:pt x="3805" y="4322"/>
                </a:lnTo>
                <a:lnTo>
                  <a:pt x="4211" y="4552"/>
                </a:lnTo>
                <a:lnTo>
                  <a:pt x="4608" y="4733"/>
                </a:lnTo>
                <a:lnTo>
                  <a:pt x="5013" y="4870"/>
                </a:lnTo>
                <a:lnTo>
                  <a:pt x="5852" y="5086"/>
                </a:lnTo>
                <a:lnTo>
                  <a:pt x="6302" y="5187"/>
                </a:lnTo>
                <a:lnTo>
                  <a:pt x="6774" y="5298"/>
                </a:lnTo>
                <a:lnTo>
                  <a:pt x="7797" y="5509"/>
                </a:lnTo>
                <a:lnTo>
                  <a:pt x="8895" y="5672"/>
                </a:lnTo>
                <a:lnTo>
                  <a:pt x="10046" y="5809"/>
                </a:lnTo>
                <a:lnTo>
                  <a:pt x="11219" y="5928"/>
                </a:lnTo>
              </a:path>
            </a:pathLst>
          </a:custGeom>
          <a:ln w="25560">
            <a:solidFill>
              <a:srgbClr val="ff0000"/>
            </a:solidFill>
            <a:custDash>
              <a:ds d="198592" sp="198592"/>
            </a:custDash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imple, general-purpose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imple hyper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Original idea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 collaborative auth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erge document authoring/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ut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The birth of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b2b2b2"/>
                </a:solidFill>
                <a:latin typeface="Tahoma"/>
                <a:ea typeface="Tahoma"/>
              </a:rPr>
              <a:t>Why HTML wa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XML for data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Examples of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ome thoughts for the 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Future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886040"/>
            <a:ext cx="817884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 for modeling information about things, o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stributed models for managing, linking, and sharing XM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ooperative information Webs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lso called .... “The Semantic 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xample: H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Historical Event Markup and L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standard, flexible and extensible means of encoding an historical event or series of events in electronic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ets you create Webs of historical data, cross-related using HEML mark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xample HEML Re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id=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"Att1915"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xml:lang=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"en"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ttack on Gallipoli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label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calendar=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"Gregorian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era=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"AD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xml:lang=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"en"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year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915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year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month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08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month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day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day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date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locatio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llipoli Peninsula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locatio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ori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xml:link=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"http://www.lib.byu.edu/~rdh/wwi/1915/gallpoli.html”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Tahoma"/>
                <a:ea typeface="Tahoma"/>
              </a:rPr>
              <a:t>event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xample: Data Syn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generic mechanism for exchanging “chunk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ets sites / databases / research projects exchange many different typ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n contain HEML, RSS, and other data in the sam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http://www.java.utoronto.ca/new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19320" y="1828800"/>
            <a:ext cx="6670800" cy="405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syndicationMessag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metadata&gt; info about the aggregator &lt;/meta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metadata&gt; metadata about the item &lt;/meta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data&gt; the data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- this could be HEML, RSS, or whatever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/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 additional items in the message 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/syndicationMessag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Syndica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85680" y="1671480"/>
            <a:ext cx="695160" cy="771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67720" y="3119400"/>
            <a:ext cx="695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2000" y="5024520"/>
            <a:ext cx="695160" cy="771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2057400"/>
            <a:ext cx="6095880" cy="1447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62520" y="1600200"/>
            <a:ext cx="3557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new HEML stu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s popular news (RSS)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minar listings (X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752480" y="3505320"/>
            <a:ext cx="6019920" cy="1904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6200" y="4800600"/>
            <a:ext cx="3332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&lt;syndicationMessag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ing HTML, RS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data chu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xample Applic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ML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tegr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tool for mixing different typ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universal form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for exchanging data between mach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ramewor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for distributing information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676520" y="781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XML, HTML and 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76520" y="2743200"/>
            <a:ext cx="7010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n G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e for Academic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978-4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ian.graham@utoronto.c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http://www.utoronto.ca/ian/talk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7080" y="5557680"/>
            <a:ext cx="1305000" cy="31428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85680" y="4948200"/>
            <a:ext cx="847800" cy="61920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2000" y="5024520"/>
            <a:ext cx="695160" cy="46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2120" y="423720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4680" y="2174760"/>
            <a:ext cx="542880" cy="130500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543800" y="240840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19400" y="2631960"/>
            <a:ext cx="466920" cy="466920"/>
          </a:xfrm>
          <a:custGeom>
            <a:avLst/>
            <a:gdLst/>
            <a:ahLst/>
            <a:rect l="0" t="0" r="r" b="b"/>
            <a:pathLst>
              <a:path w="1297" h="1297">
                <a:moveTo>
                  <a:pt x="0" y="1297"/>
                </a:moveTo>
                <a:lnTo>
                  <a:pt x="1297" y="1297"/>
                </a:lnTo>
                <a:lnTo>
                  <a:pt x="649" y="0"/>
                </a:lnTo>
                <a:lnTo>
                  <a:pt x="0" y="1297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981080" y="2484360"/>
            <a:ext cx="106704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81080" y="28656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905120" y="3017880"/>
            <a:ext cx="1066680" cy="152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8656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057400" y="2865600"/>
            <a:ext cx="6629400" cy="2819160"/>
            <a:chOff x="2057400" y="2865600"/>
            <a:chExt cx="6629400" cy="2819160"/>
          </a:xfrm>
        </p:grpSpPr>
        <p:sp>
          <p:nvSpPr>
            <p:cNvPr id="247" name=""/>
            <p:cNvSpPr/>
            <p:nvPr/>
          </p:nvSpPr>
          <p:spPr>
            <a:xfrm>
              <a:off x="5135400" y="2865600"/>
              <a:ext cx="355140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86800" y="2865600"/>
              <a:ext cx="0" cy="28191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057400" y="5684760"/>
              <a:ext cx="6629400" cy="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703600" y="2975040"/>
            <a:ext cx="6136200" cy="2691000"/>
          </a:xfrm>
          <a:custGeom>
            <a:avLst/>
            <a:gdLst/>
            <a:ahLst/>
            <a:rect l="0" t="0" r="r" b="b"/>
            <a:pathLst>
              <a:path fill="none" w="17045" h="7475">
                <a:moveTo>
                  <a:pt x="0" y="7383"/>
                </a:moveTo>
                <a:lnTo>
                  <a:pt x="255" y="7378"/>
                </a:lnTo>
                <a:lnTo>
                  <a:pt x="557" y="7378"/>
                </a:lnTo>
                <a:lnTo>
                  <a:pt x="1268" y="7378"/>
                </a:lnTo>
                <a:lnTo>
                  <a:pt x="2118" y="7393"/>
                </a:lnTo>
                <a:lnTo>
                  <a:pt x="3071" y="7407"/>
                </a:lnTo>
                <a:lnTo>
                  <a:pt x="4116" y="7432"/>
                </a:lnTo>
                <a:lnTo>
                  <a:pt x="5228" y="7451"/>
                </a:lnTo>
                <a:lnTo>
                  <a:pt x="6385" y="7470"/>
                </a:lnTo>
                <a:lnTo>
                  <a:pt x="7570" y="7475"/>
                </a:lnTo>
                <a:lnTo>
                  <a:pt x="9921" y="7451"/>
                </a:lnTo>
                <a:lnTo>
                  <a:pt x="11041" y="7417"/>
                </a:lnTo>
                <a:lnTo>
                  <a:pt x="12095" y="7354"/>
                </a:lnTo>
                <a:lnTo>
                  <a:pt x="13072" y="7267"/>
                </a:lnTo>
                <a:lnTo>
                  <a:pt x="13937" y="7147"/>
                </a:lnTo>
                <a:lnTo>
                  <a:pt x="14675" y="7007"/>
                </a:lnTo>
                <a:lnTo>
                  <a:pt x="15265" y="6819"/>
                </a:lnTo>
                <a:lnTo>
                  <a:pt x="15730" y="6587"/>
                </a:lnTo>
                <a:lnTo>
                  <a:pt x="16111" y="6298"/>
                </a:lnTo>
                <a:lnTo>
                  <a:pt x="16422" y="5969"/>
                </a:lnTo>
                <a:lnTo>
                  <a:pt x="16664" y="5593"/>
                </a:lnTo>
                <a:lnTo>
                  <a:pt x="16841" y="5183"/>
                </a:lnTo>
                <a:lnTo>
                  <a:pt x="16961" y="4758"/>
                </a:lnTo>
                <a:lnTo>
                  <a:pt x="17026" y="4314"/>
                </a:lnTo>
                <a:lnTo>
                  <a:pt x="17045" y="3866"/>
                </a:lnTo>
                <a:lnTo>
                  <a:pt x="16966" y="2962"/>
                </a:lnTo>
                <a:lnTo>
                  <a:pt x="16762" y="2118"/>
                </a:lnTo>
                <a:lnTo>
                  <a:pt x="16622" y="1746"/>
                </a:lnTo>
                <a:lnTo>
                  <a:pt x="16474" y="1404"/>
                </a:lnTo>
                <a:lnTo>
                  <a:pt x="16316" y="1105"/>
                </a:lnTo>
                <a:lnTo>
                  <a:pt x="16148" y="863"/>
                </a:lnTo>
                <a:lnTo>
                  <a:pt x="15948" y="670"/>
                </a:lnTo>
                <a:lnTo>
                  <a:pt x="15684" y="506"/>
                </a:lnTo>
                <a:lnTo>
                  <a:pt x="15368" y="381"/>
                </a:lnTo>
                <a:lnTo>
                  <a:pt x="14991" y="275"/>
                </a:lnTo>
                <a:lnTo>
                  <a:pt x="14146" y="139"/>
                </a:lnTo>
                <a:lnTo>
                  <a:pt x="13212" y="72"/>
                </a:lnTo>
                <a:lnTo>
                  <a:pt x="12263" y="53"/>
                </a:lnTo>
                <a:lnTo>
                  <a:pt x="11357" y="53"/>
                </a:lnTo>
                <a:lnTo>
                  <a:pt x="10938" y="53"/>
                </a:lnTo>
                <a:lnTo>
                  <a:pt x="10567" y="43"/>
                </a:lnTo>
                <a:lnTo>
                  <a:pt x="10242" y="28"/>
                </a:lnTo>
                <a:lnTo>
                  <a:pt x="9972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315200" y="408456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581280" y="2332080"/>
            <a:ext cx="70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35080" y="2255760"/>
            <a:ext cx="15732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1786b"/>
                </a:solidFill>
                <a:latin typeface="Times New Roman"/>
                <a:ea typeface="Times New Roman"/>
              </a:rPr>
              <a:t>Datab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1786b"/>
                </a:solidFill>
                <a:latin typeface="Times New Roman"/>
                <a:ea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1786b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76200" y="528480"/>
            <a:ext cx="8467560" cy="47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history: 4 components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, URLs, CG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94120" y="1722600"/>
            <a:ext cx="156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5e574e"/>
                </a:solidFill>
                <a:latin typeface="Times New Roman"/>
                <a:ea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86800" y="3170160"/>
            <a:ext cx="0" cy="2210040"/>
          </a:xfrm>
          <a:prstGeom prst="line">
            <a:avLst/>
          </a:prstGeom>
          <a:ln w="38160">
            <a:solidFill>
              <a:srgbClr val="ff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HTML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arted with very few tag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impl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ly need to know a little bit about the tags, and then just “muddle through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Evolv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to have more tags wer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rms, images, 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rames, fonts, applets, embeds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pen Directory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DF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esourc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escripti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language for describ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sed by Netscap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pen Cat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project to define Web accessible resources (http:/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moz.or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DF describes the catalog structure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also the items entered into the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19320" y="220680"/>
            <a:ext cx="67946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XML Family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4800" y="4948200"/>
            <a:ext cx="7934400" cy="6951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4800" y="3500280"/>
            <a:ext cx="61920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2880" y="3500280"/>
            <a:ext cx="61920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1680" y="4186080"/>
            <a:ext cx="5267160" cy="695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3124080"/>
            <a:ext cx="87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47920" y="3124080"/>
            <a:ext cx="579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  <a:ea typeface="Arial"/>
              </a:rPr>
              <a:t>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362320" y="3809880"/>
            <a:ext cx="565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924680" y="320040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048120" y="2362320"/>
            <a:ext cx="1046160" cy="1757160"/>
            <a:chOff x="3048120" y="2362320"/>
            <a:chExt cx="1046160" cy="1757160"/>
          </a:xfrm>
        </p:grpSpPr>
        <p:sp>
          <p:nvSpPr>
            <p:cNvPr id="270" name=""/>
            <p:cNvSpPr/>
            <p:nvPr/>
          </p:nvSpPr>
          <p:spPr>
            <a:xfrm>
              <a:off x="3271680" y="2738520"/>
              <a:ext cx="619200" cy="13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048120" y="2362320"/>
              <a:ext cx="1046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62520" y="1981080"/>
            <a:ext cx="776160" cy="2138400"/>
            <a:chOff x="3962520" y="1981080"/>
            <a:chExt cx="776160" cy="2138400"/>
          </a:xfrm>
        </p:grpSpPr>
        <p:sp>
          <p:nvSpPr>
            <p:cNvPr id="273" name=""/>
            <p:cNvSpPr/>
            <p:nvPr/>
          </p:nvSpPr>
          <p:spPr>
            <a:xfrm>
              <a:off x="4033800" y="2738520"/>
              <a:ext cx="619200" cy="13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962520" y="1981080"/>
              <a:ext cx="776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572000" y="2362320"/>
            <a:ext cx="1100160" cy="1757160"/>
            <a:chOff x="4572000" y="2362320"/>
            <a:chExt cx="1100160" cy="1757160"/>
          </a:xfrm>
        </p:grpSpPr>
        <p:sp>
          <p:nvSpPr>
            <p:cNvPr id="276" name=""/>
            <p:cNvSpPr/>
            <p:nvPr/>
          </p:nvSpPr>
          <p:spPr>
            <a:xfrm>
              <a:off x="4795920" y="2738520"/>
              <a:ext cx="619200" cy="13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4572000" y="2362320"/>
              <a:ext cx="1100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h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257800" y="1981080"/>
            <a:ext cx="1398600" cy="2138400"/>
            <a:chOff x="5257800" y="1981080"/>
            <a:chExt cx="1398600" cy="2138400"/>
          </a:xfrm>
        </p:grpSpPr>
        <p:sp>
          <p:nvSpPr>
            <p:cNvPr id="279" name=""/>
            <p:cNvSpPr/>
            <p:nvPr/>
          </p:nvSpPr>
          <p:spPr>
            <a:xfrm>
              <a:off x="5634000" y="2738520"/>
              <a:ext cx="619200" cy="13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257800" y="1981080"/>
              <a:ext cx="1398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ech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324480" y="2362320"/>
            <a:ext cx="708120" cy="1757160"/>
            <a:chOff x="6324480" y="2362320"/>
            <a:chExt cx="708120" cy="1757160"/>
          </a:xfrm>
        </p:grpSpPr>
        <p:sp>
          <p:nvSpPr>
            <p:cNvPr id="282" name=""/>
            <p:cNvSpPr/>
            <p:nvPr/>
          </p:nvSpPr>
          <p:spPr>
            <a:xfrm>
              <a:off x="6396120" y="2738520"/>
              <a:ext cx="619200" cy="13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324480" y="2362320"/>
              <a:ext cx="70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086600" y="1981080"/>
            <a:ext cx="690480" cy="2138400"/>
            <a:chOff x="7086600" y="1981080"/>
            <a:chExt cx="690480" cy="2138400"/>
          </a:xfrm>
        </p:grpSpPr>
        <p:sp>
          <p:nvSpPr>
            <p:cNvPr id="285" name=""/>
            <p:cNvSpPr/>
            <p:nvPr/>
          </p:nvSpPr>
          <p:spPr>
            <a:xfrm>
              <a:off x="7157880" y="2738520"/>
              <a:ext cx="619200" cy="13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7086600" y="1981080"/>
              <a:ext cx="679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U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Out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The birth of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hy HTML wa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XML for data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Examples of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c0c0c0"/>
                </a:solidFill>
                <a:latin typeface="Tahoma"/>
                <a:ea typeface="Tahoma"/>
              </a:rPr>
              <a:t>Some thoughts for the 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HTML Problems (1/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886040"/>
            <a:ext cx="8178840" cy="418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ople wanted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ddi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rmatting other typ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21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esire f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other ty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athematics, database entries, literary text, ‘messages’ (e.g., a purchase order)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fficult/impossible with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an’t arbitrarily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xt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HTML Problems (2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oftwar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rver managemen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ut -- HTML is s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ll-form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this is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76800" y="1976400"/>
            <a:ext cx="542880" cy="5428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0320" y="3805200"/>
            <a:ext cx="542880" cy="5428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557680" y="2585880"/>
            <a:ext cx="542880" cy="5428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53120" y="3119400"/>
            <a:ext cx="542880" cy="5428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0680" y="2357280"/>
            <a:ext cx="542880" cy="1457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767720" y="4338720"/>
            <a:ext cx="542880" cy="5428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0"/>
                </a:moveTo>
                <a:lnTo>
                  <a:pt x="282" y="88"/>
                </a:lnTo>
                <a:lnTo>
                  <a:pt x="564" y="171"/>
                </a:lnTo>
                <a:lnTo>
                  <a:pt x="833" y="255"/>
                </a:lnTo>
                <a:lnTo>
                  <a:pt x="1093" y="339"/>
                </a:lnTo>
                <a:lnTo>
                  <a:pt x="1332" y="418"/>
                </a:lnTo>
                <a:lnTo>
                  <a:pt x="1553" y="493"/>
                </a:lnTo>
                <a:lnTo>
                  <a:pt x="1650" y="530"/>
                </a:lnTo>
                <a:lnTo>
                  <a:pt x="1742" y="569"/>
                </a:lnTo>
                <a:lnTo>
                  <a:pt x="1831" y="600"/>
                </a:lnTo>
                <a:lnTo>
                  <a:pt x="1906" y="636"/>
                </a:lnTo>
                <a:lnTo>
                  <a:pt x="1976" y="666"/>
                </a:lnTo>
                <a:lnTo>
                  <a:pt x="2033" y="702"/>
                </a:lnTo>
                <a:lnTo>
                  <a:pt x="2086" y="728"/>
                </a:lnTo>
                <a:lnTo>
                  <a:pt x="2135" y="759"/>
                </a:lnTo>
                <a:lnTo>
                  <a:pt x="2205" y="816"/>
                </a:lnTo>
                <a:lnTo>
                  <a:pt x="2258" y="869"/>
                </a:lnTo>
                <a:lnTo>
                  <a:pt x="2289" y="918"/>
                </a:lnTo>
                <a:lnTo>
                  <a:pt x="2311" y="966"/>
                </a:lnTo>
                <a:lnTo>
                  <a:pt x="2320" y="1015"/>
                </a:lnTo>
                <a:lnTo>
                  <a:pt x="2329" y="1059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2717640"/>
            <a:ext cx="533880" cy="178200"/>
          </a:xfrm>
          <a:custGeom>
            <a:avLst/>
            <a:gdLst/>
            <a:ahLst/>
            <a:rect l="0" t="0" r="r" b="b"/>
            <a:pathLst>
              <a:path fill="none" w="1483" h="495">
                <a:moveTo>
                  <a:pt x="0" y="42"/>
                </a:moveTo>
                <a:lnTo>
                  <a:pt x="70" y="18"/>
                </a:lnTo>
                <a:lnTo>
                  <a:pt x="110" y="4"/>
                </a:lnTo>
                <a:lnTo>
                  <a:pt x="154" y="0"/>
                </a:lnTo>
                <a:lnTo>
                  <a:pt x="202" y="0"/>
                </a:lnTo>
                <a:lnTo>
                  <a:pt x="264" y="4"/>
                </a:lnTo>
                <a:lnTo>
                  <a:pt x="339" y="18"/>
                </a:lnTo>
                <a:lnTo>
                  <a:pt x="424" y="42"/>
                </a:lnTo>
                <a:lnTo>
                  <a:pt x="525" y="75"/>
                </a:lnTo>
                <a:lnTo>
                  <a:pt x="636" y="117"/>
                </a:lnTo>
                <a:lnTo>
                  <a:pt x="759" y="170"/>
                </a:lnTo>
                <a:lnTo>
                  <a:pt x="896" y="226"/>
                </a:lnTo>
                <a:lnTo>
                  <a:pt x="1037" y="287"/>
                </a:lnTo>
                <a:lnTo>
                  <a:pt x="1183" y="358"/>
                </a:lnTo>
                <a:lnTo>
                  <a:pt x="1483" y="495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263760"/>
            <a:ext cx="813240" cy="89280"/>
          </a:xfrm>
          <a:custGeom>
            <a:avLst/>
            <a:gdLst/>
            <a:ahLst/>
            <a:rect l="0" t="0" r="r" b="b"/>
            <a:pathLst>
              <a:path fill="none" w="2259" h="248">
                <a:moveTo>
                  <a:pt x="0" y="248"/>
                </a:moveTo>
                <a:lnTo>
                  <a:pt x="302" y="215"/>
                </a:lnTo>
                <a:lnTo>
                  <a:pt x="600" y="176"/>
                </a:lnTo>
                <a:lnTo>
                  <a:pt x="884" y="143"/>
                </a:lnTo>
                <a:lnTo>
                  <a:pt x="1155" y="114"/>
                </a:lnTo>
                <a:lnTo>
                  <a:pt x="1406" y="86"/>
                </a:lnTo>
                <a:lnTo>
                  <a:pt x="1521" y="72"/>
                </a:lnTo>
                <a:lnTo>
                  <a:pt x="1631" y="56"/>
                </a:lnTo>
                <a:lnTo>
                  <a:pt x="1733" y="47"/>
                </a:lnTo>
                <a:lnTo>
                  <a:pt x="1824" y="37"/>
                </a:lnTo>
                <a:lnTo>
                  <a:pt x="1907" y="28"/>
                </a:lnTo>
                <a:lnTo>
                  <a:pt x="1980" y="18"/>
                </a:lnTo>
                <a:lnTo>
                  <a:pt x="2044" y="14"/>
                </a:lnTo>
                <a:lnTo>
                  <a:pt x="2099" y="9"/>
                </a:lnTo>
                <a:lnTo>
                  <a:pt x="2145" y="4"/>
                </a:lnTo>
                <a:lnTo>
                  <a:pt x="2181" y="0"/>
                </a:lnTo>
                <a:lnTo>
                  <a:pt x="2209" y="0"/>
                </a:lnTo>
                <a:lnTo>
                  <a:pt x="2232" y="0"/>
                </a:lnTo>
                <a:lnTo>
                  <a:pt x="2255" y="0"/>
                </a:lnTo>
                <a:lnTo>
                  <a:pt x="2259" y="0"/>
                </a:lnTo>
                <a:lnTo>
                  <a:pt x="2250" y="4"/>
                </a:lnTo>
                <a:lnTo>
                  <a:pt x="2227" y="14"/>
                </a:lnTo>
                <a:lnTo>
                  <a:pt x="2200" y="1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3809880"/>
            <a:ext cx="457560" cy="330480"/>
          </a:xfrm>
          <a:custGeom>
            <a:avLst/>
            <a:gdLst/>
            <a:ahLst/>
            <a:rect l="0" t="0" r="r" b="b"/>
            <a:pathLst>
              <a:path fill="none" w="1271" h="918">
                <a:moveTo>
                  <a:pt x="0" y="842"/>
                </a:moveTo>
                <a:lnTo>
                  <a:pt x="194" y="890"/>
                </a:lnTo>
                <a:lnTo>
                  <a:pt x="286" y="908"/>
                </a:lnTo>
                <a:lnTo>
                  <a:pt x="379" y="918"/>
                </a:lnTo>
                <a:lnTo>
                  <a:pt x="471" y="918"/>
                </a:lnTo>
                <a:lnTo>
                  <a:pt x="560" y="908"/>
                </a:lnTo>
                <a:lnTo>
                  <a:pt x="644" y="885"/>
                </a:lnTo>
                <a:lnTo>
                  <a:pt x="728" y="842"/>
                </a:lnTo>
                <a:lnTo>
                  <a:pt x="803" y="777"/>
                </a:lnTo>
                <a:lnTo>
                  <a:pt x="878" y="701"/>
                </a:lnTo>
                <a:lnTo>
                  <a:pt x="949" y="607"/>
                </a:lnTo>
                <a:lnTo>
                  <a:pt x="1015" y="499"/>
                </a:lnTo>
                <a:lnTo>
                  <a:pt x="1081" y="380"/>
                </a:lnTo>
                <a:lnTo>
                  <a:pt x="1147" y="258"/>
                </a:lnTo>
                <a:lnTo>
                  <a:pt x="1271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3124080"/>
            <a:ext cx="609840" cy="1067040"/>
          </a:xfrm>
          <a:custGeom>
            <a:avLst/>
            <a:gdLst/>
            <a:ahLst/>
            <a:rect l="0" t="0" r="r" b="b"/>
            <a:pathLst>
              <a:path fill="none" w="1694" h="2964">
                <a:moveTo>
                  <a:pt x="0" y="0"/>
                </a:moveTo>
                <a:lnTo>
                  <a:pt x="185" y="66"/>
                </a:lnTo>
                <a:lnTo>
                  <a:pt x="366" y="136"/>
                </a:lnTo>
                <a:lnTo>
                  <a:pt x="546" y="216"/>
                </a:lnTo>
                <a:lnTo>
                  <a:pt x="714" y="304"/>
                </a:lnTo>
                <a:lnTo>
                  <a:pt x="874" y="410"/>
                </a:lnTo>
                <a:lnTo>
                  <a:pt x="1024" y="533"/>
                </a:lnTo>
                <a:lnTo>
                  <a:pt x="1156" y="674"/>
                </a:lnTo>
                <a:lnTo>
                  <a:pt x="1213" y="758"/>
                </a:lnTo>
                <a:lnTo>
                  <a:pt x="1271" y="846"/>
                </a:lnTo>
                <a:lnTo>
                  <a:pt x="1323" y="943"/>
                </a:lnTo>
                <a:lnTo>
                  <a:pt x="1368" y="1045"/>
                </a:lnTo>
                <a:lnTo>
                  <a:pt x="1447" y="1274"/>
                </a:lnTo>
                <a:lnTo>
                  <a:pt x="1509" y="1522"/>
                </a:lnTo>
                <a:lnTo>
                  <a:pt x="1562" y="1786"/>
                </a:lnTo>
                <a:lnTo>
                  <a:pt x="1606" y="2069"/>
                </a:lnTo>
                <a:lnTo>
                  <a:pt x="1637" y="2360"/>
                </a:lnTo>
                <a:lnTo>
                  <a:pt x="1667" y="2660"/>
                </a:lnTo>
                <a:lnTo>
                  <a:pt x="1694" y="2964"/>
                </a:lnTo>
              </a:path>
            </a:pathLst>
          </a:custGeom>
          <a:ln w="25560">
            <a:solidFill>
              <a:srgbClr val="5e574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934320" y="1676520"/>
            <a:ext cx="1743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HTML Problems (3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oftwar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ient data processing (machine -- machine commun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gain, hard because -- HTML is generally s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ll-form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76800" y="2128680"/>
            <a:ext cx="542880" cy="5428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77000" y="2433600"/>
            <a:ext cx="542880" cy="1457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0000" y="4567320"/>
            <a:ext cx="466560" cy="92376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2362320"/>
            <a:ext cx="1067040" cy="457560"/>
          </a:xfrm>
          <a:custGeom>
            <a:avLst/>
            <a:gdLst/>
            <a:ahLst/>
            <a:rect l="0" t="0" r="r" b="b"/>
            <a:pathLst>
              <a:path fill="none" w="2964" h="1271">
                <a:moveTo>
                  <a:pt x="0" y="0"/>
                </a:moveTo>
                <a:lnTo>
                  <a:pt x="370" y="4"/>
                </a:lnTo>
                <a:lnTo>
                  <a:pt x="555" y="8"/>
                </a:lnTo>
                <a:lnTo>
                  <a:pt x="740" y="26"/>
                </a:lnTo>
                <a:lnTo>
                  <a:pt x="926" y="52"/>
                </a:lnTo>
                <a:lnTo>
                  <a:pt x="1111" y="92"/>
                </a:lnTo>
                <a:lnTo>
                  <a:pt x="1296" y="141"/>
                </a:lnTo>
                <a:lnTo>
                  <a:pt x="1481" y="211"/>
                </a:lnTo>
                <a:lnTo>
                  <a:pt x="1667" y="299"/>
                </a:lnTo>
                <a:lnTo>
                  <a:pt x="1853" y="405"/>
                </a:lnTo>
                <a:lnTo>
                  <a:pt x="2038" y="529"/>
                </a:lnTo>
                <a:lnTo>
                  <a:pt x="2223" y="662"/>
                </a:lnTo>
                <a:lnTo>
                  <a:pt x="2408" y="807"/>
                </a:lnTo>
                <a:lnTo>
                  <a:pt x="2593" y="957"/>
                </a:lnTo>
                <a:lnTo>
                  <a:pt x="2964" y="1271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238880" y="1981080"/>
            <a:ext cx="1523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3276720"/>
            <a:ext cx="686160" cy="1219680"/>
          </a:xfrm>
          <a:custGeom>
            <a:avLst/>
            <a:gdLst/>
            <a:ahLst/>
            <a:rect l="0" t="0" r="r" b="b"/>
            <a:pathLst>
              <a:path fill="none" w="1906" h="3388">
                <a:moveTo>
                  <a:pt x="0" y="0"/>
                </a:moveTo>
                <a:lnTo>
                  <a:pt x="224" y="66"/>
                </a:lnTo>
                <a:lnTo>
                  <a:pt x="449" y="141"/>
                </a:lnTo>
                <a:lnTo>
                  <a:pt x="665" y="220"/>
                </a:lnTo>
                <a:lnTo>
                  <a:pt x="868" y="317"/>
                </a:lnTo>
                <a:lnTo>
                  <a:pt x="1063" y="432"/>
                </a:lnTo>
                <a:lnTo>
                  <a:pt x="1240" y="564"/>
                </a:lnTo>
                <a:lnTo>
                  <a:pt x="1394" y="727"/>
                </a:lnTo>
                <a:lnTo>
                  <a:pt x="1465" y="824"/>
                </a:lnTo>
                <a:lnTo>
                  <a:pt x="1526" y="927"/>
                </a:lnTo>
                <a:lnTo>
                  <a:pt x="1579" y="1032"/>
                </a:lnTo>
                <a:lnTo>
                  <a:pt x="1632" y="1156"/>
                </a:lnTo>
                <a:lnTo>
                  <a:pt x="1716" y="1412"/>
                </a:lnTo>
                <a:lnTo>
                  <a:pt x="1778" y="1703"/>
                </a:lnTo>
                <a:lnTo>
                  <a:pt x="1822" y="2011"/>
                </a:lnTo>
                <a:lnTo>
                  <a:pt x="1857" y="2342"/>
                </a:lnTo>
                <a:lnTo>
                  <a:pt x="1879" y="2683"/>
                </a:lnTo>
                <a:lnTo>
                  <a:pt x="1892" y="3035"/>
                </a:lnTo>
                <a:lnTo>
                  <a:pt x="1906" y="3388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72200" y="4694400"/>
            <a:ext cx="17589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ever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9360" y="2787480"/>
            <a:ext cx="1566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 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Three New “Pattern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86040"/>
            <a:ext cx="817884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stuff t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(like HTML, but more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odeling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ata insi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a Web application (like a text datab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ffcc00"/>
              </a:buClr>
              <a:buSzPct val="4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ructure of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ata mess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sent between machines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... HTML is ok, at best, for the first 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S. Graham</dc:creator>
  <dc:description/>
  <dc:language>en-US</dc:language>
  <cp:lastModifiedBy>David Sitsky</cp:lastModifiedBy>
  <cp:revision>0</cp:revision>
  <dc:subject/>
  <dc:title>An XML Introduction</dc:title>
</cp:coreProperties>
</file>