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22896"/>
        <c:axId val="14614381"/>
      </c:barChart>
      <c:catAx>
        <c:axId val="94222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14381"/>
        <c:crosses val="autoZero"/>
        <c:auto val="1"/>
        <c:lblAlgn val="ctr"/>
        <c:lblOffset val="100"/>
        <c:noMultiLvlLbl val="0"/>
      </c:catAx>
      <c:valAx>
        <c:axId val="14614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22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E32-DF78-4137-9E57-179D5D54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2BD-148E-4BFC-991F-08A68BCF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157-9C91-4DF5-866D-8EC968F7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28B-4E01-411E-87BA-56D6FF52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2B9-26AA-4808-A60E-74721752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BF6E-9F1C-40F8-8ECE-C75A52FC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4F3-A6EE-49B0-8FEE-F94820E2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633-1DA5-40F9-9AC4-1F8F342A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3A7-C390-4BD3-B336-527B57CA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697-9A1B-4797-98F3-931C5279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B9B-8B87-4DAD-95DD-341A7339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CA4-27EA-44D9-A24D-BB67D161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0C211-AEBD-4E94-84F9-A5761DE313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