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22559"/>
        <c:axId val="8189611"/>
      </c:barChart>
      <c:catAx>
        <c:axId val="550225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9611"/>
        <c:crosses val="autoZero"/>
        <c:auto val="1"/>
        <c:lblAlgn val="ctr"/>
        <c:lblOffset val="100"/>
        <c:noMultiLvlLbl val="0"/>
      </c:catAx>
      <c:valAx>
        <c:axId val="8189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225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D0C-3E03-48B8-835B-47CF4A25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E4D1-7523-4787-833D-0935C2B7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6DC5-B558-4564-A207-6F9F6278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FAD-202E-428B-A136-355B014B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B542-6F27-4339-A168-CE3530BC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E71C-ED41-4BED-A1E5-D6DF9C9C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84E-14A0-4B91-8E87-EDD66BF4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B8FE-E68E-4D19-8798-23BB7E50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072D-E536-495A-9A18-9B38BCDD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2682-3DE6-4697-9B1F-C650C828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92F7-2B43-4936-BE7F-898A0AB5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A308-3CE7-4404-86BB-751F2AA2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B8B7D-669D-4026-A1AA-54BD9D8845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