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64FD85-6B96-4CAB-8EE9-EFBB8A128D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05C527-EA54-4A17-AA90-9F0280F116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E7931F-36B4-4F26-8850-69964596B2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A4500C-79E0-40D9-8736-4D1539AB28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1C21EE8-5D0E-4EBB-BF83-CCE2B601829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C9A610-1260-4708-A8FB-B010E4BEB2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E17A3A-7E37-4180-A923-BFC25CD7B0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09AE76-8070-4D9D-9CA4-23418F7D7A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740855-2867-46B2-B1E1-B95A1ADF39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20B201-6C1D-4016-82FB-C681BBFD0D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F9009C-0562-491D-98DB-C281C30985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88C1B6-78AD-4A7C-97DD-6976B1EE38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79C610-D9C5-4DE7-A05D-44C0E9DAEE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1690CA-36F4-418F-B221-F641A1C37F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A0D868-45A9-4538-9EEF-93888D5A07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A4084FB-E14E-42CC-B07F-82B63DDB512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6D0E71B-3390-4EAE-9A8A-EA05992FBA2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6D5434-B25D-4F4A-9117-94D6126C53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F3A815-3A8B-4D02-9519-F08BA02AA2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59E585-4339-44D2-9050-B7B015FAE8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657ADE-5950-41F5-B606-B99D72764E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D6EB84-9E80-47D0-9B71-EE7249A9B4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B968BE-AC82-4B07-8D7D-4A3DDFA8F6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A879FF-1C20-4DFC-8436-3A4AF7FEA2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0BF3C3-97FE-4B37-A206-49CA2B52456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784182-1F50-4C04-B9A0-2E738C6DE6A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A0A858B-A904-4273-9EDD-2FDB054E72B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36ADB9B-BB66-48CE-8611-9D990C5668F1}"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0EC302-521E-4C9D-9AAC-DA03ADB3D782}"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46C6EF-CFAF-491A-A376-2A63F0EBBF16}"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70B1A2-E638-4BF6-A007-61DD3C1D7C76}"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8BEA05-2313-442A-9188-309FF26643C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BB5177-2E05-4A98-BAD2-DF8A0AD2D86D}"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D5A12B-D1D0-427F-B07C-310AE7D78D8E}"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833A9E-7B45-4BA2-8098-5C43B2BEE4FE}"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81F817-EC5D-4CD7-ACEE-9E6DBC104481}"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6207BA-C7D0-483A-B8A6-A9995E056471}"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A9162B-1E92-4592-A32E-3C105F7AA117}"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48A232-4E00-4721-9808-D89012B24342}"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6B800D-4822-44AB-90B9-7578025A0B0B}"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5B9852-6F0A-45DB-99C6-C06601CF53E4}"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7DC5CB-F10C-47EA-9E85-9C82225CA350}"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C64978-D762-40E4-B60A-350CB69B9474}"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D8F4E0-7570-438D-9AF4-0FA1713A275C}"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BCBD25-2686-4428-9B9E-EE275ED08056}"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ECAC28-EC2E-4242-9E3D-920B1657FCAC}"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5C48B3-008B-4B25-AEF7-B33AD3DCAFFF}"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DD8D5A-BED9-4B3A-9AE1-70D568DBC549}"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DA488F-3F5E-4DDD-B27E-88E1F5C1CDE5}"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D49968-9B6B-4AF7-BB2D-A9B5F40F55B1}"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88F168-6301-43A7-B8FA-8248164B4A2D}"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9915EB-E934-4BE0-9C8A-E7EE7E97589D}"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1FF973-98F1-4444-94B0-F29659EB3191}"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FB601AD-23E5-44D9-A585-0F94CB3AEB6B}"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5F45DA-0289-490E-A828-82B87EF158C8}"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404995-4F9A-4DF6-BD2C-EF6D5357C4CC}"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A57BC4-36A1-483F-98CF-769DDA69655C}"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6F7289-72C8-4021-9CC1-53597992ACC7}"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E09507-9B7D-47EB-A8C2-3B9550D45207}"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DB4CAD-17B4-4F40-9EB5-D3274EC94AF9}"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F6427C-03D6-4210-9B18-623AABFE0AEE}"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5C7B50-3AEE-40C6-82CD-E9C0ECF0FDD1}"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869A9A-175E-47D5-B10E-D00EB59EC2E7}"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C4D934-8C82-437D-93A2-74984060ECFB}"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0CC90D-9630-4300-9CF8-3F43C0F62311}"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807D2B-03B0-4847-9EAF-D4E62CC699E3}"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CCE08A-FFD5-4797-BF54-5D354F690CEB}"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CE7513-8D70-436C-8E30-8AD8345DE349}"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967A4D-8EDB-41C4-8623-3C2520F0BE63}"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422EA5-F255-43A9-AA3C-3B414D1A9911}"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7FEA25-4ECB-4A0B-93AB-50A14E7DE78B}"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58CF22-2C3A-418E-9E20-5C5725903580}"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FFD5EF-16AF-409F-965A-8D12D848FB68}"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311B4B-913D-4D02-8057-C738D37E419F}"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AC96BBE-8891-42D7-84B3-04DE1B03A65C}"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39C6EF-D5C1-40E2-A412-F662B1CC4376}"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648A25-F7B5-4786-B607-CEFD1CD5105E}"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7F3CB1E-7193-4F8D-A183-6AC7A7CC14FC}"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4FC8C7-63FD-412D-A577-2DF86A74E137}"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023479-2168-41EA-BF4D-48D7649B51B6}"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F25A6F-0D40-4DF4-A4EB-D107BCA3E072}"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C5B1D9-13B0-4939-B8DE-4F5AF823D79A}"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ACD1E3-31B6-436D-9A5A-F043CD0F8DB3}"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B4305F-BF72-4495-BCA5-D3C699D1D8BB}"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EFDECE-7597-46AF-B0B8-60A891D858E8}"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0A2007C-1B74-43C8-AAF3-7E9AEA1A6414}"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4E8CED-3956-4E28-B226-D81B5ED5C946}"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660C51-2454-4404-B38C-7AC5E28DB310}"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734B5B-3BA7-4346-9637-128E34EB7E08}"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3104A9-FB19-4F91-B38B-9B37058B3C84}"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444844-F11C-4375-BF32-2C163A1542F0}"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A81C602-B976-4094-BB36-394074BD9166}"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EEA140-0CE5-4732-81F7-B06B0092478C}"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EED69F-4804-4BC3-9D12-C988152FD73F}"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BE6469-2562-4141-9AC3-3FE95726FACD}"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66F4D8-4973-45CA-859D-1F3F7CF005CE}"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D2F9878-D6F1-4230-A2C9-E29A74D49EDF}"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7A19A4-8CCD-4694-B3A7-13CF505BD308}"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2C5863-29E5-4CF3-BE0F-907F4BB41D0F}"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3AD3E0-0112-44B1-9E20-F04A4CDF87E3}"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9B0DED-CAA9-4580-B0F0-8D44EA9BCF0A}"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6C7F91-110F-4F08-ACE8-95A9B6136E89}"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68848F-2F74-491D-891F-FC10D29D5A47}"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7790A4E-FB4D-4661-8874-282B61B886FF}"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130A74-80B8-4CD3-A34A-5FC4F6ADDA8C}"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5C712B-3DC3-4305-9449-E21D5CD945DF}"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D49C68-DE2B-4828-AD26-467A49C92AE7}"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EA26897-A487-4C9A-AEFA-287A4807B428}"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5CC8C7-39D9-444B-B840-6583C9A165A1}"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5B0EC81-15EE-40DC-A79A-0BC3B208EA20}"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C8E5B6-472C-4B2F-8312-ED1DCE143C1D}"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AADC7E-CF44-4A01-A8C6-A2697C09BC13}"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3BBFC6-2136-4151-AD21-646E0F7B2EEB}"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BE8EA3-B8A3-4A48-93E5-515A3643A5B5}"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EF1F29-6838-4FFC-8DA9-38BB82D13B6E}"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D5A339-6E58-4121-90E2-208B99CBC8CE}"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3DF171-7C3B-489B-BA0D-34A1DF235442}"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202ED0-7354-40F4-88B9-0C2624969CF8}"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45519B-0477-4FF1-BA70-82362EF2D146}"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326D3C-F8B2-4540-838F-506023597FA2}"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175ACB-09F3-402B-A396-CE70AB0CEE2B}"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2C48EA-F34F-43B0-BF1D-6A6B6E59F37B}"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1257C4-4899-4246-A4F2-489E5418D2B3}"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79B05C-9872-4E92-A99D-881114961533}"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D4E50F-8BD8-424E-8FCE-7DACD1A29A93}"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EB87B52-0B93-4387-9A54-B39639304163}"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7EB2A8-DB70-43F5-A128-97DFD960E08D}"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14430A-E88C-421F-A869-291AAD6C9F98}"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F40A95-D24D-45DC-850D-22E44747B397}"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F16674-FED7-4920-A491-D2646D2DAA94}"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73D7B5-807D-4DB1-B008-DAE42383D733}"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17510D-E998-4327-B2AC-89A1DA6FEAC7}"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670390-17C7-4D74-A134-750709A8E648}"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F5867E-0FBA-4866-B571-B9F5600F5FA3}"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B50DC0-37A6-4CC6-A461-1F3F65939E6B}"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FC47C3-CBC8-4A22-95C7-1EC423FC9547}"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F13460-9EE2-4F9F-89ED-28852EA20D8E}"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4F5E42-FD95-4FB8-B1C1-BB4F06CBAAA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13ADA3-E367-491D-82C3-A9BB6BC853BE}"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24AD13-A4E3-41DC-96A0-EA91D7D6CEB6}"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1673E5-F079-4579-A5AD-A85E1D454AE0}"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4711FD-8468-4F19-B3DD-ABDC8B3E28A1}"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B0D5C3-F749-4400-A26B-4AEA116D0663}"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E010B3-8E55-4185-99C1-794D74A05769}"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42BA15-3C1F-43FA-A055-6B99BF229448}"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05C724-B42B-45EC-9567-683207677609}"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5B45FC-0A27-408F-9C1F-BD25EC40B752}"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4F6825-4D83-4E6D-97E3-780FF4EF9D1A}"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A469E8-A0F5-4A82-A7FB-79F70813FB4D}"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1909DD-CACF-4128-9E14-009B04CE5DF2}"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C1F9AD-D2BD-451F-994F-14BD85A51451}"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7EC5D6-B478-4D0A-A47A-12206075238B}"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89E593-E5E6-4850-82B5-D9D2475D2A24}"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03542D1-6A3D-44F2-BBDB-CC9246917C85}"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9F49A9-3C48-4538-9C67-02C70E81011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C6BA63-EF6A-43FD-9CEF-CD7DF62D2A7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5DA1ED-3017-485B-8A38-87B69700079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9DF993-E674-42DE-A448-49BD87C0806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9FA93A-FB35-4F8D-939A-EF304E14D3B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76C8FD-2713-4F78-AC85-20E1C1176C7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4A37DAC-7A3B-4C98-A0E2-2FC82063EE9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EFE5A5-85B1-4349-9603-1A6F10009B4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5728A6-880D-4968-9003-1BA182463D6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042541-C285-4FF5-B2EC-D33CCA1375B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AEDFC3-3FD9-4B0B-982B-68EB8025970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D83455-D664-4C52-96AC-0FE691BFEA8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FDF2C5-95AD-4F4D-AE66-E45CB832283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63C150-F902-4841-8224-C59C0E31263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EA1534-194B-44D1-A37A-949C592926E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6A30BD-5C17-408E-9800-639F466E031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8A4709-1C37-4B37-B11D-33A31C6EDCD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D1E792-2FCD-4792-A0B5-4D0089F5809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76754F-DF2B-43CF-ABD0-80019D4A6E2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632F02-84A4-4884-ABC7-1D23D2075EF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975EC4-2B1A-44B6-AD67-969F7F443F4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123094-115F-40F9-B2A8-6448D81472E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F99D06-78C1-47FD-AF75-52897C24BC3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BED2D6-62B1-4C63-9A89-8B46D67FA29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4070F0-1271-48D7-850B-1CB004D83A3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994276-96A3-439D-BDD5-3AED5B4580F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E5E69B-5FD8-4FA5-AB0D-E6B71E9AD9C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DF995A-F41C-4671-B3D3-D8C021ADF7B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62929F-E3C3-4D8E-AFBC-A277C4A4E15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109DC5-FC2D-460C-B1BF-FC8C0F47E38E}"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650ABC-2AC1-4E38-9780-89715BDFABC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EDAF1F-5E48-484A-8367-92527BC6D92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ED0A7C-FD2D-455C-862F-DA40E7C9B64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DF1984-9D95-4631-BBA4-AF6215B0054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D3EAE2-E33C-4856-A331-3136E019347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5C4EDA-EE37-4252-BF56-4A9EDE0764ED}"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4BBCAD-E3E3-492D-A549-A69BB6B42B5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6615EA-234D-40A2-AC56-596882F60C5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0507C3-156E-494E-83D9-C10379F32E8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537347-129D-496F-91F4-C2EFD0985A2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B8A2D4-4B5F-4649-AE0F-1F73E0026D97}"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E5B3C4-8362-4D99-AC90-AD3CA7825C2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5C8846-58DE-4C5A-A8FE-573A9127433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78A536-EF2E-41AC-B0B5-D15EBE2A9BAD}"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AE2BD8-07D3-4E7D-8E1E-A259D1BB397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41DB98-1994-4523-B4A4-62A924F62B1F}"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3F5999-8A4B-4564-9F25-9445907F994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29A86AB-92A2-42DB-91E4-4B61270193F7}"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3DEBA5-1948-44CB-B258-6E141D667E6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67E57D-7CDA-4B81-A751-4ECE6C53039F}"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D9044D-FA3B-4EA0-B4C1-F72EFAFED93C}"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639AFD-D9AD-45FB-9675-8D2F80B6A7F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A72A7D-FD6F-42A3-AC49-495BD6F7FFB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547A21-8748-4DBE-A382-C4782684BD3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91804C-CA23-40A1-88EB-DDD0062238D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17BCE1-7226-4B38-BBE3-FC835560275B}"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28948FA-7687-44A5-84AE-8A4CD601520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4ED2B0-24B1-4B51-906D-1BAF90C4F85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0C41FD-1280-4DE9-A79A-9AF0AF2394A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F6AB7C-3730-4641-92E1-D8C0EE911EF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DDD862-5725-4C74-BC9A-47BC35DA19C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7940E4-F5A5-44C5-A765-665250819F0A}"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8B13BE-FAC6-4DAC-A464-DE8F48DD35A8}"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6A14D4-4671-4539-B9EA-057F34F7178A}"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BB0185-095E-4113-B2FA-7AEA421D64B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C08E23-5002-47F3-ADFF-6A0FCFEA651D}"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1A196F-ECA5-430F-9142-942D08427B89}"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00E51D-3884-4C84-9E4C-B578BFFDDC09}"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82F529-D13F-4707-86FE-B220CA5E4CCC}"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84BC02-CF36-4098-A375-D2D5ADA8FF79}"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8260C3-0820-4CAD-9780-DECF9CAAE38E}"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741BCEE-DC06-4FE4-BE10-0CB696019D0C}"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F81183-C16C-422D-AFCB-BC86FD9B088E}"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731B11-8184-498F-B9FC-B94B2E1BC7ED}"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258A6C-5534-428E-9250-10565FF47E8B}"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E033AF-4B07-4EAD-87B3-EC4540EF9717}"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ED29F6-D76F-4E28-8BB4-9159CF4A0F8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FD9F0A-9E23-42DC-93B2-463944D89B5E}"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5A1851-FCF9-437C-BDE5-DCE2336EC78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A9D97F-D281-4996-B8D9-1DD9AD3AEB3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8021A2-E05A-46C4-9563-D107F6D5F386}"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A3BDA7-8320-40B0-BB9E-A83D9C1642CF}"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9D1E88-9CC2-41D1-8BEF-DD9BE7147E37}"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37E037-F8E3-4EDB-A5B8-0BCE40B4011A}"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B79EAA-36F2-4D52-A30A-5DC4B9A0F3F8}"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