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9"/>
        <c:axId val="89024026"/>
      </c:barChart>
      <c:catAx>
        <c:axId val="19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24026"/>
        <c:crosses val="autoZero"/>
        <c:auto val="1"/>
        <c:lblAlgn val="ctr"/>
        <c:lblOffset val="100"/>
        <c:noMultiLvlLbl val="0"/>
      </c:catAx>
      <c:valAx>
        <c:axId val="89024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ECAB-59D7-44AB-8538-BFC82214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7B54-164F-4C53-82A3-61D8090F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4E14-0288-4F0D-9F06-5EE908F4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9E9-D047-47D1-AACA-0A6FC4D4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B4C4-4748-476A-9C30-C7F05AB1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7A9E-EE51-4224-9AE9-0E5DFDDA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866-FD9D-4428-BC4D-78F6099C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1C81-F264-4629-A051-D9FEA59A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BA6-7263-4C43-AE10-2D547C36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C00-AB86-4796-8671-873E3209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5A4B-EA74-439A-8760-AE246390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092D-0E76-46FE-99DE-40739F54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D3D0C-9F5D-4439-BD89-9A10FC7B41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