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61181"/>
        <c:axId val="67374941"/>
      </c:barChart>
      <c:catAx>
        <c:axId val="36661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74941"/>
        <c:crosses val="autoZero"/>
        <c:auto val="1"/>
        <c:lblAlgn val="ctr"/>
        <c:lblOffset val="100"/>
        <c:noMultiLvlLbl val="0"/>
      </c:catAx>
      <c:valAx>
        <c:axId val="67374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61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5AE-C7AF-4C96-B1E5-3446AC15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39E-B711-4542-A9D1-13ADF88B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999-7BD5-4F05-8B3E-189DF87E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028-9E2D-481F-A5C2-82919DE5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874-123C-40F7-A90B-24E4CAEA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AFD-FCAE-4355-865C-7C88E3D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78C-F114-4EA3-915B-E02D402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E32-2493-43ED-9B0C-F84D665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59F-B555-4F68-B8E5-1CB26C1E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23B-E37A-4801-821F-D726868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16C-2C90-41DE-B073-0DE0E79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223-5CA4-4019-B0B2-7B93BDA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7692C-A3C8-41D3-AD51-E7596D56B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