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04130"/>
        <c:axId val="43957438"/>
      </c:barChart>
      <c:catAx>
        <c:axId val="82041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57438"/>
        <c:crosses val="autoZero"/>
        <c:auto val="1"/>
        <c:lblAlgn val="ctr"/>
        <c:lblOffset val="100"/>
        <c:noMultiLvlLbl val="0"/>
      </c:catAx>
      <c:valAx>
        <c:axId val="439574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041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59C7-8D2B-4916-B489-4FE2E384B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0863-C13A-44FA-9955-56C91560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8E1A-F1FE-4A8C-A1E0-53E6BDC5C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0A1F-8EF6-4A37-A0E1-13E3F055F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A03E-8C6C-4911-BCDE-454635BE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8B78-E50E-4BD5-8AC9-1AB24612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FF4F-E760-40C6-83E7-0F350BE0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AFCC-B488-4B94-BBD0-A5C62D4E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7D94-A8C7-4676-8D99-A29E3CEE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A569-BE05-4742-93DC-C3F64D68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D90B-9218-4278-A9E4-B3BC9D02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0FBB-D92F-4867-9BF3-E0E73892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F5E5E2-D7A3-4D13-BAE8-F23B22DE56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