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24225"/>
        <c:axId val="89533337"/>
      </c:barChart>
      <c:catAx>
        <c:axId val="140242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33337"/>
        <c:crosses val="autoZero"/>
        <c:auto val="1"/>
        <c:lblAlgn val="ctr"/>
        <c:lblOffset val="100"/>
        <c:noMultiLvlLbl val="0"/>
      </c:catAx>
      <c:valAx>
        <c:axId val="89533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242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4CF-76AE-45F2-922C-28388837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22D-5826-4BDD-9599-F1C91F6C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F064-56C0-4ADA-97B5-98F20253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E0C-AC37-4C63-9132-69836D12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E21-78FE-462D-9F6C-32950FA3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A83C-A7EE-4C9C-84C8-F0F467EA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B92-214B-44E3-B9AC-A6A8F459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FE6-C52C-4229-A995-995A5641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EB52-BE9A-43FA-B99C-6025D47C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3F0-F5EE-40C3-874A-0636447A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4A5-9271-4CDE-8056-20B9FAC6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06D-3039-4F30-BFCB-7756EE01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2D1E3-D0F4-40C4-BA56-1929D2181F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