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336633"/>
        <c:axId val="29334031"/>
      </c:barChart>
      <c:catAx>
        <c:axId val="983366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34031"/>
        <c:crosses val="autoZero"/>
        <c:auto val="1"/>
        <c:lblAlgn val="ctr"/>
        <c:lblOffset val="100"/>
        <c:noMultiLvlLbl val="0"/>
      </c:catAx>
      <c:valAx>
        <c:axId val="293340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366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6792-5E54-4DE9-BA66-73F739DE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9442-9B73-472A-87C5-54821A73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9ABC-93F9-4B30-B618-EF216F94B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D4F5-9213-46F2-AB26-1C4985D61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28F4-1F15-41E1-829B-4852B472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AC69-C3FB-4E7F-A14B-5C179E75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8735-D2D4-4AB7-B8CB-DB507EF9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A295-C5EA-4022-BD91-88B9270A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FADA-2944-4B7A-8FFB-7AB4F43F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2DAA-1589-4B4F-8C89-5D49E131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92ED-97E6-4D25-AC8D-3CEA31A4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D5EC-33DF-44D0-9CC0-BAC171AC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CFC8D-6B31-4931-8FEB-D5B9542922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