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599873"/>
        <c:axId val="84053034"/>
      </c:barChart>
      <c:catAx>
        <c:axId val="355998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53034"/>
        <c:crosses val="autoZero"/>
        <c:auto val="1"/>
        <c:lblAlgn val="ctr"/>
        <c:lblOffset val="100"/>
        <c:noMultiLvlLbl val="0"/>
      </c:catAx>
      <c:valAx>
        <c:axId val="840530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998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AF6B-BDF6-46E5-B1AD-D792DD7D3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06ED-EE94-46FE-948B-5C6B6BEC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E5E3-1FB8-4A34-8842-60CAE9E62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D552-AD08-4B0D-B0C9-E1C32A611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FD98-5CCB-4052-88B7-DADFE902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99BD-2255-4896-8AED-1AEEEE5B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D789-1AB4-4F28-AF93-12AE2ED8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7073-94D4-4BE2-A636-73D5CCCB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49C8-605C-47E7-8029-DCC0EB79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6B60-B68F-44D8-BC0B-9477BBC0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7E3E-25FA-4FBB-B5AC-719217D7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C2EE-B478-499F-964C-1EE1C9A9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3947C-9D98-4345-BE08-132ADD9597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