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06218"/>
        <c:axId val="37145531"/>
      </c:barChart>
      <c:catAx>
        <c:axId val="47506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5531"/>
        <c:crosses val="autoZero"/>
        <c:auto val="1"/>
        <c:lblAlgn val="ctr"/>
        <c:lblOffset val="100"/>
        <c:noMultiLvlLbl val="0"/>
      </c:catAx>
      <c:valAx>
        <c:axId val="37145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06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7CC-D9B4-412A-BE40-ADF1FE54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517-6794-4E53-B38E-6B7CC039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14E-3BB4-4F51-992D-67696C56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263-ADE4-4F42-9373-76B35EBE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DBB-9F15-4E3C-B790-179B660D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0FD-6409-42BB-A022-372FC54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3DE-85A9-4CB3-A7D6-E0A34C7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444-BBE1-4025-9E77-E8B43EBE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450-421A-4F3C-A9EE-4B43B184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E3A-E348-4375-8D48-E32D6C2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1AE-10D8-463D-94E6-30D8FDD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27F-58CF-4C50-9EC7-AC04F73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00FE9-E488-413C-BFEF-4FEC392AB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