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84644"/>
        <c:axId val="85384826"/>
      </c:barChart>
      <c:catAx>
        <c:axId val="82384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84826"/>
        <c:crosses val="autoZero"/>
        <c:auto val="1"/>
        <c:lblAlgn val="ctr"/>
        <c:lblOffset val="100"/>
        <c:noMultiLvlLbl val="0"/>
      </c:catAx>
      <c:valAx>
        <c:axId val="85384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84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54F-B6A8-4A3A-B16C-4DAE475A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98B-A190-427E-8B3E-6292DEBD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DC2-EF3E-44EE-8E9B-F7BDD0F7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24E-9EE0-4A8B-A113-BF85692B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B63-FBE3-4413-9D7A-90397EBA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8FD-6558-47AE-8AC1-7AF6828A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65E-EA82-47F1-9DE3-BD1B8AA4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C2A-8174-4CC3-B695-B6FE8BD2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69A-D2C4-484F-B040-D96CBDC7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5DC-BC02-49E6-9A66-6522F23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111-6C25-4206-82E1-41483A29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3C0-6CF8-4A57-BC42-4B83251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DF160-67CB-4DEC-BC02-151F414488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