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07964"/>
        <c:axId val="48194379"/>
      </c:barChart>
      <c:catAx>
        <c:axId val="41607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94379"/>
        <c:crosses val="autoZero"/>
        <c:auto val="1"/>
        <c:lblAlgn val="ctr"/>
        <c:lblOffset val="100"/>
        <c:noMultiLvlLbl val="0"/>
      </c:catAx>
      <c:valAx>
        <c:axId val="48194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07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909-7038-4F27-8F50-C213752A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68C-EC0B-4B06-BC48-815F935E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41F-FAD4-4BF4-886E-D0034CDE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A79-C7F5-4EFC-A8E7-49C3DE0A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942-4F3B-4472-8590-CA7AE20C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5DA-D664-48EF-95B5-E0D4BB72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B19-EE06-4FAA-8047-60F2368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99A-794F-45FC-A2DE-0E1BDC5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16E-BA9F-4D6E-9ABA-BDDBA197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FD2-37AA-45F9-9EC5-AF34200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DEA-71E1-480C-9F99-86B8D97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BF1-DAD6-43FB-BEEF-FD41440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D061-58D6-4EBF-878E-63108A923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