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085943"/>
        <c:axId val="98190492"/>
      </c:barChart>
      <c:catAx>
        <c:axId val="870859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90492"/>
        <c:crosses val="autoZero"/>
        <c:auto val="1"/>
        <c:lblAlgn val="ctr"/>
        <c:lblOffset val="100"/>
        <c:noMultiLvlLbl val="0"/>
      </c:catAx>
      <c:valAx>
        <c:axId val="981904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859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83E5-ED53-4CD7-8686-85C318166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12B3-BB69-453D-BE7C-AA155BA5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E940-DB70-4E1A-9DC2-54F25F196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ACCE-9961-488F-80B0-5F9718396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DF23-5352-4A66-AE30-CE6FDBC2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5662-D368-450C-9509-C0E4EEDC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AD4B-91E5-4BFC-920A-87F05D67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ADD1-D4BD-46A8-B6A5-F94C771D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B240-0AB5-4598-ACA0-082C89E7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EFAD-2FD2-44B8-98B9-02F543DC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0BBF-4732-4675-8174-7A34C3C9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B7CA-A5FD-4813-A91D-8C88C414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F4AFD-3AFA-4275-8F80-C349A7AFB8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