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371602"/>
        <c:axId val="82429378"/>
      </c:barChart>
      <c:catAx>
        <c:axId val="683716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29378"/>
        <c:crosses val="autoZero"/>
        <c:auto val="1"/>
        <c:lblAlgn val="ctr"/>
        <c:lblOffset val="100"/>
        <c:noMultiLvlLbl val="0"/>
      </c:catAx>
      <c:valAx>
        <c:axId val="824293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3716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4A65-ED77-457B-A4D9-B1646E62C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2042-9627-4EBC-AFE3-6EC1B13C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8E91-89FD-4A43-A12F-F91559D32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DFA4-94D3-4E18-B897-717F94443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8DBF-1DB2-4CCD-A3B4-A8C0C06E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CB3E-150B-4BF4-99DB-569B04AC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6E0D-642A-42AA-B1F2-87CB90A0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357E-D0E5-486E-9CB7-B696FBD4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70C1-7928-42E0-9214-EEA4091C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27F8-E428-4566-BA1E-E71D6A40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703A-C8C0-48B3-9295-79169871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6B0E-EF73-4BD0-9380-7FDF08BD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AA834-477B-40D3-9073-CA2F66CBEB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