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4574"/>
        <c:axId val="7978982"/>
      </c:barChart>
      <c:catAx>
        <c:axId val="7404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8982"/>
        <c:crosses val="autoZero"/>
        <c:auto val="1"/>
        <c:lblAlgn val="ctr"/>
        <c:lblOffset val="100"/>
        <c:noMultiLvlLbl val="0"/>
      </c:catAx>
      <c:valAx>
        <c:axId val="7978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4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AB7-9B55-495F-8DA7-81B9EB97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918-B01C-4E83-A1F3-27F2B206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021-B9F2-4F48-9883-4822F45A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7F3-17E1-45B9-8548-13BD9289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F68-0D8C-425F-8390-B8C43407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6E2-DFC6-483D-93CF-D64331DB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46F-69CE-4A6F-B292-24E95F78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23F-93C4-49EF-92F5-8C02E2C1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062-87C4-4589-A064-36ACE3EE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96E-5291-4AA6-BC31-F727B25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6AE-DA4C-4F59-A7F5-FA10DCEB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23D-7B95-4FB4-AF75-D126F22E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56259-920A-4A43-BF3B-57347B99B0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