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62447"/>
        <c:axId val="59953051"/>
      </c:barChart>
      <c:catAx>
        <c:axId val="33362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53051"/>
        <c:crosses val="autoZero"/>
        <c:auto val="1"/>
        <c:lblAlgn val="ctr"/>
        <c:lblOffset val="100"/>
        <c:noMultiLvlLbl val="0"/>
      </c:catAx>
      <c:valAx>
        <c:axId val="59953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62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AD8-F699-4875-93AC-09EDB92B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E3E-0DFF-445A-B87E-294DB347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CB8-867E-43EC-A27D-F4F8CBA3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526-AAB7-4889-93E6-C395B8D7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19E-8585-4CC7-8363-C9F46043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08A-018A-46D8-BEF8-EB51608B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DA5-2961-4EA6-A1EB-AC9981D7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289-546F-495A-BD6F-F2AFFEF9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A7F-443E-46F7-8C6A-D641EECC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BEB-228C-4751-9AEB-5AE06B79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854-328B-4EDA-9FA2-A402941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043-76DE-448C-AA49-03ADCA62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26C63-A2AA-4122-A548-5FF6C1EDE4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