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4956939"/>
        <c:axId val="6296698"/>
      </c:barChart>
      <c:catAx>
        <c:axId val="1495693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96698"/>
        <c:crosses val="autoZero"/>
        <c:auto val="1"/>
        <c:lblAlgn val="ctr"/>
        <c:lblOffset val="100"/>
        <c:noMultiLvlLbl val="0"/>
      </c:catAx>
      <c:valAx>
        <c:axId val="629669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95693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7E08D-2DC1-4260-AB74-0330B662E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7FEE-8752-485D-9DE6-34F95319C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1497-A582-449E-B1B8-94E1B0A5CA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65552-29EF-4496-9CC3-48FEB0390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2116-B5D5-4A5D-8C98-C76058FEA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24A3-B642-413F-AB82-7AAE55E6AB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36CBE-6525-46D8-95AF-AE8C9B962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F3B2-4861-4412-B77D-6C070E1DB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EF05-AAF4-4DE1-811D-3FA836C89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8E194-D146-4D67-856A-0046C7603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6885-F743-43FD-A718-6D2FFEFEEC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510D-2B9E-44D4-831F-4FFB91BD2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C9148E-836E-43DA-904B-25C72203EBC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