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63601"/>
        <c:axId val="59916649"/>
      </c:barChart>
      <c:catAx>
        <c:axId val="17563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6649"/>
        <c:crosses val="autoZero"/>
        <c:auto val="1"/>
        <c:lblAlgn val="ctr"/>
        <c:lblOffset val="100"/>
        <c:noMultiLvlLbl val="0"/>
      </c:catAx>
      <c:valAx>
        <c:axId val="59916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63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C6B-4414-4BDE-88BC-30C7FCAE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F5E-63F8-4149-A36D-8F55B75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B30-0ADB-48EA-B672-FDC0BB23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293-A36A-4BA9-9D59-8E410163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B5B-D742-4E68-9645-726B3AE1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7B4-F055-4BB3-862A-BCE1493B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4E-1473-4600-AAD9-411B1E8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9A2-8648-4ADB-8759-20CABB7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237-74F0-4496-A453-79770C2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30E-390B-4284-9BEC-AF7E7B7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2E8-1E16-40E5-A70F-8C49667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EEC-6945-474D-86EF-FB45E948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7D533-F022-41DC-9918-72B3A1927F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