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17596"/>
        <c:axId val="97903966"/>
      </c:barChart>
      <c:catAx>
        <c:axId val="94017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3966"/>
        <c:crosses val="autoZero"/>
        <c:auto val="1"/>
        <c:lblAlgn val="ctr"/>
        <c:lblOffset val="100"/>
        <c:noMultiLvlLbl val="0"/>
      </c:catAx>
      <c:valAx>
        <c:axId val="97903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7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FC8-2C7F-4B9F-B137-C9C68579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B6C-2CFA-41C8-B2DC-DF3AA20A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EB9-E363-42EB-B508-D68ED41B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657-1F31-4DCC-8B8F-22BE15CD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D5D-D137-4600-9DFA-006E506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20E-A9D0-453D-B473-9D2861C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148-D592-465D-9A10-94A72FA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11D-3A7C-41CB-9E84-FD53130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242-0FB4-4274-AFFF-1310445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54A-D58F-4A6C-A3DF-959E412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3BD-664E-433F-AE6C-D7B9E9D5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B27-E7AE-4207-B4C9-7687ADE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59EE-7DC2-4686-BB56-56F653DDC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