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82368"/>
        <c:axId val="58431709"/>
      </c:barChart>
      <c:catAx>
        <c:axId val="439823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31709"/>
        <c:crosses val="autoZero"/>
        <c:auto val="1"/>
        <c:lblAlgn val="ctr"/>
        <c:lblOffset val="100"/>
        <c:noMultiLvlLbl val="0"/>
      </c:catAx>
      <c:valAx>
        <c:axId val="584317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823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7BF6-D22B-42A1-AC98-DEB0A2A3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10C-BE00-4D51-8D50-6B80EF00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9E8-2D8E-42CE-BD4D-B13BCC82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2B6-F4AA-474B-8188-28EA486B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0113-6B08-4F41-AE51-18B05FD7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91C-6F98-4C27-A0D8-6A0C9747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2562-AE38-4C58-83E7-573CA8B9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C2A3-75FB-400B-BDAF-AD2E700D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5FE-AC1A-4BC2-B51C-D7742781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1D2-CE69-4831-B9BB-183F577F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539-1AFC-4296-81AF-1C5D66EF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1E7-89AB-490B-BAB3-09341B45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9E528-51E7-4330-AAE5-35F70B9173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