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05708"/>
        <c:axId val="19787716"/>
      </c:barChart>
      <c:catAx>
        <c:axId val="24105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87716"/>
        <c:crosses val="autoZero"/>
        <c:auto val="1"/>
        <c:lblAlgn val="ctr"/>
        <c:lblOffset val="100"/>
        <c:noMultiLvlLbl val="0"/>
      </c:catAx>
      <c:valAx>
        <c:axId val="19787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05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178-8F2A-47F4-895A-C71A75B1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CD0-E395-4027-A6B7-8BA6A79A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8C8-E1A6-4CBB-80D1-A6E393D7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762-924F-4F4E-9CD3-F25D9E71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6F4-7730-488D-9833-06C9EAD0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2C5-71E7-44E6-9690-28D14700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83C-50AF-4AD0-98AE-64F41C3F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9E7-A847-41A1-BAB4-5D094FE3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A6C-7D43-4DF0-A084-1B9B85BE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493-1218-41EA-9FF6-8FC7A4E7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FD8-B002-429B-A57D-655BE317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770-66B1-42CB-9021-D4D5978C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94576-36D9-42C9-88B1-65F82BAFAD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