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81098"/>
        <c:axId val="74843454"/>
      </c:barChart>
      <c:catAx>
        <c:axId val="44581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43454"/>
        <c:crosses val="autoZero"/>
        <c:auto val="1"/>
        <c:lblAlgn val="ctr"/>
        <c:lblOffset val="100"/>
        <c:noMultiLvlLbl val="0"/>
      </c:catAx>
      <c:valAx>
        <c:axId val="74843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81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CCA-8727-4E81-B201-1C9B739A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638-F4AF-4BDD-B57B-B4E52625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F7B-A879-4FD6-8A16-FB00028D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952-8640-4030-8818-D7808B1E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2EB-4396-4B80-857D-C65652C0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37F-CCBF-411D-ADE9-6FB2802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87D-8139-4EF3-83DE-26A49E18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D87-5E25-49BE-AA52-2BDD26E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C5F-120D-4C13-B0E2-A15F6B08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E5B-27AA-4CA9-93B3-5F4CB36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2ED-CC4A-4EA0-A4E7-1EB69E4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3E5-2BCE-4E69-97A4-33FCD9D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6025C-2959-4A9B-9F56-AF908B80AE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