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4489770"/>
        <c:axId val="60916877"/>
      </c:barChart>
      <c:catAx>
        <c:axId val="5448977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916877"/>
        <c:crosses val="autoZero"/>
        <c:auto val="1"/>
        <c:lblAlgn val="ctr"/>
        <c:lblOffset val="100"/>
        <c:noMultiLvlLbl val="0"/>
      </c:catAx>
      <c:valAx>
        <c:axId val="6091687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48977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5E90A-7044-4628-9EE2-1A2B34C5B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5712A-F710-41AB-B6C7-2253E2C5C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288B0-9DCC-4096-B295-244BAC6ED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501DC-9355-4E65-ABD3-70B6DF5A7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492FA-290B-4A56-9322-8D8B18255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13D49-8D4D-4A26-826C-7043DBB1D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5665B-6B3D-4A3A-B171-D94D84AC9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00952-383E-490F-888B-B9148B556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0452C-022F-4852-9F0C-F52930094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2198B-CF3F-4733-8607-51EA2199B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FECDA-3159-4337-A025-E0A2F9CEE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F2968-0C85-46EB-BD69-AEE7D358C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8014FE-BCA1-4076-8FFA-261939554C7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