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908873"/>
        <c:axId val="80198049"/>
      </c:barChart>
      <c:catAx>
        <c:axId val="979088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198049"/>
        <c:crosses val="autoZero"/>
        <c:auto val="1"/>
        <c:lblAlgn val="ctr"/>
        <c:lblOffset val="100"/>
        <c:noMultiLvlLbl val="0"/>
      </c:catAx>
      <c:valAx>
        <c:axId val="801980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9088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FF83-7D9A-4AB9-B682-B155019A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03BA-CC5C-4212-8516-B6A33E638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237-F027-475B-AA76-8637A6C54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D9EA-04A9-47C1-835E-BE776680C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E9C9-B9AB-4DF6-AA1A-53714DAF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803-A184-4A29-8018-35E24827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6DE1-2A2A-410B-90BB-38453B72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E61F-8D7E-442D-B6EC-64E78A1BF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74E6-4719-489F-B48C-67E27DAA4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306-9BD4-4F17-A31F-74F9BA48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CC20-E2E4-46E7-9F84-B0B4A4E4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CC8F-4D82-4525-82C1-7B5CDBF9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402410-7827-4351-90EA-D278523A34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