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86374"/>
        <c:axId val="13401568"/>
      </c:barChart>
      <c:catAx>
        <c:axId val="68286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1568"/>
        <c:crosses val="autoZero"/>
        <c:auto val="1"/>
        <c:lblAlgn val="ctr"/>
        <c:lblOffset val="100"/>
        <c:noMultiLvlLbl val="0"/>
      </c:catAx>
      <c:valAx>
        <c:axId val="13401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6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874-5A14-418E-9266-CA0B86BF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2AD-833E-4264-8993-287E1450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8FA5-3BE7-4F7F-B61F-C77AFEB1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9D82-CC01-4B0D-A5BB-B73ACB30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8A3-1025-4AE7-A546-F57401D6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16A-CC4E-4769-87CC-FBD9C3B0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D5B-26BF-4008-8673-00800D4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F14-D165-4208-8CB1-8A448B4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46C-4A95-4992-85BA-971B800B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238-15BD-46C3-A216-438B86B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9AB-088B-45CB-844C-9A1EE5A6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B39-71B5-4E56-A298-2C4F2A71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40CFF-11D6-4798-ABC2-7649436A69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