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85130"/>
        <c:axId val="43070558"/>
      </c:barChart>
      <c:catAx>
        <c:axId val="74285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0558"/>
        <c:crosses val="autoZero"/>
        <c:auto val="1"/>
        <c:lblAlgn val="ctr"/>
        <c:lblOffset val="100"/>
        <c:noMultiLvlLbl val="0"/>
      </c:catAx>
      <c:valAx>
        <c:axId val="43070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85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407-B647-4ABC-8430-9EA63BDC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AD1-D58C-46BD-BF11-D88530AB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9CE-8705-41A2-AEED-D77ADA53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3AC-77DC-4DE2-9F87-C88EB096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93F-0985-485E-80BA-55F3B5CA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439-99B9-4CCC-8139-F345C193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9F1-9CCC-46A7-88AD-FF3DB878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92A-1F4D-4D19-92AA-78DE09F2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A9E-9BFD-4CEB-8E60-2CC77CCF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014-7938-45BA-9032-A4F6A328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125-C3B9-4C61-8BB3-29269B31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9B1-4AEE-4E7F-82CF-A6E979A2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F62FE-5931-4F17-A351-90189F5EA0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