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49607"/>
        <c:axId val="17972019"/>
      </c:barChart>
      <c:catAx>
        <c:axId val="24949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2019"/>
        <c:crosses val="autoZero"/>
        <c:auto val="1"/>
        <c:lblAlgn val="ctr"/>
        <c:lblOffset val="100"/>
        <c:noMultiLvlLbl val="0"/>
      </c:catAx>
      <c:valAx>
        <c:axId val="17972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49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6FB-5069-4CDA-82FD-B56C85C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DFF-274D-4340-9736-BEBBA066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D84-99F9-45E4-B9AA-57D040D4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684-408A-499B-A2A3-AF38DB36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523-13EB-4EB8-AD75-0227CE8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40F-DF59-4AD2-83C6-EF28AAE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920-E0B6-4937-9A96-EBC8645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F19-23EC-427A-B5B9-86C39B23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083-2A7F-4252-9FD4-817469B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D22-DF96-4C04-B612-C233B9F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BAC-20C2-49BF-A0BA-C16AECD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50D-E64A-4573-836B-4494D6E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E06A2-2E4C-47EB-A111-F917150B4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