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21320"/>
        <c:axId val="78809032"/>
      </c:barChart>
      <c:catAx>
        <c:axId val="37421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09032"/>
        <c:crosses val="autoZero"/>
        <c:auto val="1"/>
        <c:lblAlgn val="ctr"/>
        <c:lblOffset val="100"/>
        <c:noMultiLvlLbl val="0"/>
      </c:catAx>
      <c:valAx>
        <c:axId val="78809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21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0BC-767F-4C56-A87C-74155492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52F-F8C9-4666-9DF7-DA53716B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BC6-8481-4A5C-9D85-0099C305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1FE-5409-4405-AB28-8705D979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902-84A5-4C4D-B5CA-CD625487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226-337A-47D1-88B7-B6001AB1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6C0-1209-4CE2-AB33-E2B35EAC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9A7-957E-4648-A4DB-F8441DB4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7B7-AE39-48E1-8198-E4FF8364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0E8-E1C7-47A4-B318-6567B01F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DD0-5E06-433E-9DB3-33B0650F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881-B81A-471E-92CB-C4172F7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9EDEE-EF1B-4F71-BB21-4AF80C49F9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