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49125"/>
        <c:axId val="70019115"/>
      </c:barChart>
      <c:catAx>
        <c:axId val="12549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9115"/>
        <c:crosses val="autoZero"/>
        <c:auto val="1"/>
        <c:lblAlgn val="ctr"/>
        <c:lblOffset val="100"/>
        <c:noMultiLvlLbl val="0"/>
      </c:catAx>
      <c:valAx>
        <c:axId val="70019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49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D24-2D5B-4C0D-8D02-973B5A9B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0CF-3207-4575-B353-1EDD84F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9B7-91ED-4562-AEB8-53D6606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F7E-2CC5-403D-BCB4-C9CF6CD0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5CB-6560-495F-B7CF-8B214CEA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CB2-93F6-4009-9236-C2C36BAA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D90-9670-46BB-984C-BEA12D2E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74B-90EE-4D6A-B23B-E2CB41AE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F4E-9476-40E4-B878-A1360A0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46A-B54C-40EE-8950-77C25C0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9B2-6C2B-486A-B4B1-2A845EE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B31-D5F0-4BA9-AA18-75AD13F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70491-3BF1-4275-BA16-0E0019C913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