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35479"/>
        <c:axId val="99447531"/>
      </c:barChart>
      <c:catAx>
        <c:axId val="20935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47531"/>
        <c:crosses val="autoZero"/>
        <c:auto val="1"/>
        <c:lblAlgn val="ctr"/>
        <c:lblOffset val="100"/>
        <c:noMultiLvlLbl val="0"/>
      </c:catAx>
      <c:valAx>
        <c:axId val="99447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5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D56-5984-46A8-8131-E79D1721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0F9-72BB-4B3B-A6DA-65A03D63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37F-9230-4D20-854C-DE8A46EF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3D9-43F8-40A3-BA31-58B0EC87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835-3793-4171-8579-B6A665F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8A9-51C7-4566-98B2-D24AB6F9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0C9-716D-4E12-946B-90DD41B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42F-8BD0-4E1C-8183-3096A66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FF2-6E45-42BA-93A1-4D0E377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449-09F1-4970-9923-8C77729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927-1982-483F-92B6-92949FF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0A3-53C0-42A8-AFD8-799B1E3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9ACF9-A769-4CCF-AB10-2DDB24285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