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70097"/>
        <c:axId val="97666442"/>
      </c:barChart>
      <c:catAx>
        <c:axId val="11170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6442"/>
        <c:crosses val="autoZero"/>
        <c:auto val="1"/>
        <c:lblAlgn val="ctr"/>
        <c:lblOffset val="100"/>
        <c:noMultiLvlLbl val="0"/>
      </c:catAx>
      <c:valAx>
        <c:axId val="97666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70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6D6-435D-4432-A5C8-50B8648A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149-DE0C-49B0-95D7-2D88114C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8E9-DDBD-403F-854B-F248C02D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F9E-7215-4E9D-946E-9DF47F18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2D9-CDB8-4924-AE79-1B4AA1B4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D27-88D7-470B-85A2-CE288D22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FB9-5C5D-44BF-90D5-707554A6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4BC-9841-4B17-90E0-6C9E9046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6DF-59DB-4CBD-AE99-9CC642BA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E46-1D21-408A-9643-030A071D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7D2-8484-46B0-846D-6011D6E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A61-5375-43D5-B789-73640D7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279EB-91BA-4FE5-93D8-68B0B28BB1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