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293640"/>
        <c:axId val="44848485"/>
      </c:barChart>
      <c:catAx>
        <c:axId val="672936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848485"/>
        <c:crosses val="autoZero"/>
        <c:auto val="1"/>
        <c:lblAlgn val="ctr"/>
        <c:lblOffset val="100"/>
        <c:noMultiLvlLbl val="0"/>
      </c:catAx>
      <c:valAx>
        <c:axId val="448484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2936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83A7-978A-4CB5-9416-11A2542E8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2395-ADF3-46FD-B7D7-4061DAA5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A0CA-5905-4055-925A-AAE3FDF9D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8D49-3BB2-43C8-B471-50E7D7B9D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BA08-C5D3-4FF7-A4E7-A7D3BB50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A7EB-76A8-45A3-B8F0-22B8DD1A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9160-EF78-4554-934B-31AB11AE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CDEC-D2F5-4C7A-A324-F7647790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3AA3-D18C-4781-8DC5-4C86857C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B4DF-F893-4522-9DDB-FADC0868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D4F6-0F50-4C5D-8EFE-BDA02817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FB47-6E34-4A4E-A587-766E07B4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9D15F-29AB-4E4D-A928-8BC90B1890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