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107361"/>
        <c:axId val="56515535"/>
      </c:barChart>
      <c:catAx>
        <c:axId val="31107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15535"/>
        <c:crosses val="autoZero"/>
        <c:auto val="1"/>
        <c:lblAlgn val="ctr"/>
        <c:lblOffset val="100"/>
        <c:noMultiLvlLbl val="0"/>
      </c:catAx>
      <c:valAx>
        <c:axId val="565155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07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EB4-0EB0-4C97-A09D-8D363E15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176D-2D14-4326-9518-466A0663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D894-A9EA-442C-B136-E56CE473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280-586F-40C9-858B-BE7C9624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34B-426E-49A1-B1C1-D917FAA4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247-84DB-434C-9392-27314F6F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0D2-2156-4EC3-9C0F-FB389B5C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79D-A128-4F81-BE4D-8C3DDB96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54F8-F6F6-4555-9DD3-47ABC557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57A0-2D39-4C17-AA7F-E887CDA9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2CA-2972-483F-8D4C-9A8DCE39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2896-1E5F-4F1E-A371-334BD2B4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DD11F-FFD3-494C-A3AB-D412A99BA2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