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FA7-A86A-4E9E-8818-895E42B1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3A6-6F86-4AFE-91CB-4BD78082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15D-224F-4007-BF18-50FE2C66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43A-8325-42E7-8D75-ECE4DB07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41B-48AC-423B-9F7F-81BC8B9C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71F-A316-4697-8C12-B0289FBA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FFE-1821-4578-A5DD-4B67E4C7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F7B-5055-4D67-A9B4-7FBE11BF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A69-6639-450D-B014-234264FF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EDA-5E8E-4F3F-BECA-3011B988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CA6-F7A0-442F-8F2B-6C7A51F3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81E-F5E5-4972-837B-92EE27F0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41AADC-6674-49C1-B62C-5220255C2A11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6-01T10:39:18Z</dcterms:modified>
  <cp:revision>19235</cp:revision>
  <dc:subject/>
  <dc:title>LionNet-esittely</dc:title>
</cp:coreProperties>
</file>