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91403"/>
        <c:axId val="33617998"/>
      </c:barChart>
      <c:catAx>
        <c:axId val="29991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17998"/>
        <c:crosses val="autoZero"/>
        <c:auto val="1"/>
        <c:lblAlgn val="ctr"/>
        <c:lblOffset val="100"/>
        <c:noMultiLvlLbl val="0"/>
      </c:catAx>
      <c:valAx>
        <c:axId val="33617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91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FE8-FC06-4335-BE3E-286BA7C8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20D-5AFC-44EA-9AFA-FBF25C57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0E8-0622-4E87-9BE7-47ADFEF8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C94-6845-45F4-962D-5539C450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DB23-931C-4AD4-ADDE-34C0C900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D8E-CF08-44AE-B9A5-7AE16473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0D88-51A2-42E8-94C9-B6DDFB31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205-0362-478A-A0AF-D8757131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4A4-67A8-428F-BD88-D779DF4C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E1D-589D-473F-942B-9ACE3FF3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2ED-6F70-4243-8DCE-0CFB0F94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24A-535F-469F-B67F-5E805ACF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595E4-79F4-4456-BCF9-08CAA2CB92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