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21767"/>
        <c:axId val="20037660"/>
      </c:barChart>
      <c:catAx>
        <c:axId val="65021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37660"/>
        <c:crosses val="autoZero"/>
        <c:auto val="1"/>
        <c:lblAlgn val="ctr"/>
        <c:lblOffset val="100"/>
        <c:noMultiLvlLbl val="0"/>
      </c:catAx>
      <c:valAx>
        <c:axId val="20037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21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4E2-1DFC-45A4-AE49-5B3DCE17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C3E-7278-484D-945C-D56FA270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368-5C98-4D9E-BD70-F9854669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C65-AB87-448E-8E1B-6BB00CB0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D56-28F7-4779-835E-4E3B9160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595-03BB-4624-8280-DAE19346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C21-D58A-4323-90AE-0E5CFB49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BF2-2BAA-44A5-A0D5-22DE4793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A72-DD56-4D1B-B178-4BF3850B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E78-7A1F-48AA-BCC8-E2975B94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F31-E64A-4625-B1C7-DAD5913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D9A-121F-4344-9676-0B60A8CA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6E1C4-4305-4D52-9B55-AE62940DFA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