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9561-371C-410E-90F3-4CBEB9B18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FA10-FA39-4B50-A908-C10C60CC8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FE4F-14D6-44BA-AADF-32B1F697D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AE043-9809-4E02-9D8E-8494604E8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2505-F50D-4A92-89E1-0CB1D3791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E6504-C8CA-42E1-A903-09970E85D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DC0F-5197-4279-8710-5DF899E90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D7C19-748A-440F-976D-AF3D1F1C3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6681-96C2-4A86-BE51-19E6737C9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560A-E8A7-488C-BE9F-12F8AE39A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F1E2-82C0-4998-8919-C98B683D9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8D12-A83C-4BDB-83D2-7F1A3EB3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41A02-3889-4E0F-9BC5-AA15CCCB81F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ringin.wav" TargetMode="External"/><Relationship Id="rId2" Type="http://schemas.microsoft.com/office/2007/relationships/media" Target="file:///tmp/home/.config/libreoffice/4/user/gallery/ringin.wav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06" fill="hold"/>
                                        <p:tgtEl>
                                          <p:spTgt spid="4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1"/>
                </p:tgtEl>
              </p:cMediaNode>
            </p:audio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4-19T10:43:33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