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DE71-BBE3-4A9A-8EF5-697CFF2B83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425-4C9F-488F-B1F0-DA36A4A05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470-523D-46C4-8C3E-4B00DB07D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2CA3-F081-421F-B2A3-130AFDE13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34AB-0F13-4AC8-8928-BA22508A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178D-8C1B-4A63-9AFF-8B9BE75FD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A7969-0C70-4D31-9FC9-589559BA7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A6877-CFA5-43AC-9EA8-D5B663D89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D4B9-182A-4630-B377-2727BA82E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9850A-E78D-42E8-AEA0-A498AB0BD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F95C-B39D-49CF-8037-7E7267998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4DFA-35EA-4051-B999-FAC581B47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7B57A-1FEA-48AC-AEA1-D94438D192A1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5E4BB-E774-4EAB-9F92-CB834FB7354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lobal 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5C56-1A1D-4546-831E-22E8D398CCD8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12D235-54C6-4B7A-8F97-834F3682D9B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er-slide 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B1BB-F728-4AB8-95DD-A23B87FEC84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custom date format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Yegor Kozlov</cp:lastModifiedBy>
  <dcterms:modified xsi:type="dcterms:W3CDTF">2008-08-03T14:40:17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