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E2F0B-67A1-48B6-84A9-2F55DBB12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291C-221A-4648-95A4-4A707B157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0D439-EB8C-4B56-B0C7-F1ED48E18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99400-C50A-4989-92AD-251AD97072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101C-7C9B-482F-AA22-325AAC76B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364BB-C119-4792-8D9E-63683A59C4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C3879-8AD6-4179-A237-B1C8E887F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F25D6-CD3C-4623-B793-A99E7226C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25D62-F6E5-48BE-9401-775DC955A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5A67-76C8-4BAC-BAF2-EF1867796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B7D-922E-4511-8BC3-6A5FFF8D1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2B0A-42EA-4991-BB9E-8B43CEA1E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99923-3A9B-4321-B43A-469B3441170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tle tex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a text placeholder tha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 the design pat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d in the slide mas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has bullets by defaul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8080" y="1143000"/>
            <a:ext cx="38102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at follow the design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rom the slide mas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645000" y="3618000"/>
            <a:ext cx="357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’m a text box with user-defi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 charac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7-05-28T08:52:52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