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ct" ContentType="image/x-pict"/>
  <Override PartName="/ppt/media/image9.pct" ContentType="image/x-pict"/>
  <Override PartName="/ppt/media/image13.pct" ContentType="image/x-pict"/>
  <Override PartName="/ppt/media/image2.png" ContentType="image/png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21.pct" ContentType="image/x-pict"/>
  <Override PartName="/ppt/media/image19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3.png" ContentType="image/png"/>
  <Override PartName="/ppt/media/image14.pct" ContentType="image/x-pict"/>
  <Override PartName="/ppt/media/image4.png" ContentType="image/png"/>
  <Override PartName="/ppt/media/image15.pct" ContentType="image/x-pict"/>
  <Override PartName="/ppt/media/image16.pct" ContentType="image/x-pict"/>
  <Override PartName="/ppt/media/image5.png" ContentType="image/png"/>
  <Override PartName="/ppt/media/image6.pct" ContentType="image/x-pict"/>
  <Override PartName="/ppt/media/image11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345A-7A86-4E49-B9B4-438CD001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230D-E633-49B9-9FDD-CDE40298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F9F5-EF14-4E3F-95CB-D5AFE90D9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9316-EBD5-4146-9EEB-153193134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A233-F41A-4311-9E1C-E27925D58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7359B-838B-4E5C-991A-FBA15A9D61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6619F-7A50-450D-805B-07346F564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E6EB-177B-4627-A1DF-29E95A122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9635-1428-440B-9527-02F6F0907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F038-2051-46B2-98B7-707733DE2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EE106-BED2-40AA-8811-EF304CD0C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C5E-4F5E-4CD2-8FAC-FC2C019DF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6C9AB-3598-4730-B734-A31DF1A64AA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image" Target="../media/image7.pct"/><Relationship Id="rId3" Type="http://schemas.openxmlformats.org/officeDocument/2006/relationships/image" Target="../media/image8.pct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2.pct"/><Relationship Id="rId3" Type="http://schemas.openxmlformats.org/officeDocument/2006/relationships/image" Target="../media/image13.pct"/><Relationship Id="rId4" Type="http://schemas.openxmlformats.org/officeDocument/2006/relationships/image" Target="../media/image14.pct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image" Target="../media/image18.pct"/><Relationship Id="rId5" Type="http://schemas.openxmlformats.org/officeDocument/2006/relationships/image" Target="../media/image19.pct"/><Relationship Id="rId6" Type="http://schemas.openxmlformats.org/officeDocument/2006/relationships/image" Target="../media/image20.pct"/><Relationship Id="rId7" Type="http://schemas.openxmlformats.org/officeDocument/2006/relationships/image" Target="../media/image21.pct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21036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317600" y="373392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3273480" y="685800"/>
            <a:ext cx="2595600" cy="25956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338040" y="685800"/>
            <a:ext cx="2595600" cy="25956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146520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4447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40064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796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37520" y="32004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5230800" y="3733920"/>
            <a:ext cx="2595600" cy="25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3124080" y="1886040"/>
            <a:ext cx="3382920" cy="3801960"/>
            <a:chOff x="3124080" y="1886040"/>
            <a:chExt cx="3382920" cy="3801960"/>
          </a:xfrm>
        </p:grpSpPr>
        <p:sp>
          <p:nvSpPr>
            <p:cNvPr id="53" name=""/>
            <p:cNvSpPr/>
            <p:nvPr/>
          </p:nvSpPr>
          <p:spPr>
            <a:xfrm>
              <a:off x="4571640" y="3219480"/>
              <a:ext cx="17528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4343040" y="527688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55" name="" descr=""/>
            <p:cNvPicPr/>
            <p:nvPr/>
          </p:nvPicPr>
          <p:blipFill>
            <a:blip r:embed="rId1"/>
            <a:stretch/>
          </p:blipFill>
          <p:spPr>
            <a:xfrm>
              <a:off x="3124080" y="2305080"/>
              <a:ext cx="3382920" cy="338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"/>
            <p:cNvSpPr/>
            <p:nvPr/>
          </p:nvSpPr>
          <p:spPr>
            <a:xfrm>
              <a:off x="3635280" y="1886040"/>
              <a:ext cx="2361960" cy="396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6172200" y="2362320"/>
            <a:ext cx="3086280" cy="3085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9372600" y="3657600"/>
            <a:ext cx="777960" cy="22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7848720" y="31240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=0.003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228600" y="2286000"/>
            <a:ext cx="3382920" cy="3382920"/>
            <a:chOff x="228600" y="2286000"/>
            <a:chExt cx="3382920" cy="3382920"/>
          </a:xfrm>
        </p:grpSpPr>
        <p:sp>
          <p:nvSpPr>
            <p:cNvPr id="62" name=""/>
            <p:cNvSpPr/>
            <p:nvPr/>
          </p:nvSpPr>
          <p:spPr>
            <a:xfrm>
              <a:off x="1752840" y="2971800"/>
              <a:ext cx="1752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0.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371600" y="525780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TB    MF/TB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64" name="" descr=""/>
            <p:cNvPicPr/>
            <p:nvPr/>
          </p:nvPicPr>
          <p:blipFill>
            <a:blip r:embed="rId3"/>
            <a:stretch/>
          </p:blipFill>
          <p:spPr>
            <a:xfrm>
              <a:off x="228600" y="2286000"/>
              <a:ext cx="3382920" cy="3382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5" name=""/>
          <p:cNvSpPr/>
          <p:nvPr/>
        </p:nvSpPr>
        <p:spPr>
          <a:xfrm>
            <a:off x="17496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4508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543800" y="57150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571680" y="2089080"/>
            <a:ext cx="3315600" cy="2941920"/>
            <a:chOff x="571680" y="2089080"/>
            <a:chExt cx="3315600" cy="2941920"/>
          </a:xfrm>
        </p:grpSpPr>
        <p:sp>
          <p:nvSpPr>
            <p:cNvPr id="69" name=""/>
            <p:cNvSpPr/>
            <p:nvPr/>
          </p:nvSpPr>
          <p:spPr>
            <a:xfrm rot="11042400">
              <a:off x="2715840" y="2640960"/>
              <a:ext cx="335880" cy="36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571680" y="2089080"/>
              <a:ext cx="3315600" cy="279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1290960" y="3148920"/>
              <a:ext cx="504000" cy="0"/>
            </a:xfrm>
            <a:prstGeom prst="line">
              <a:avLst/>
            </a:prstGeom>
            <a:ln w="15840">
              <a:solidFill>
                <a:srgbClr val="5dbac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90960" y="3401280"/>
              <a:ext cx="504000" cy="0"/>
            </a:xfrm>
            <a:prstGeom prst="line">
              <a:avLst/>
            </a:prstGeom>
            <a:ln w="31680">
              <a:solidFill>
                <a:srgbClr val="e31f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79200" y="29808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Un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79200" y="3317400"/>
              <a:ext cx="1428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MF expose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90960" y="4662720"/>
              <a:ext cx="2016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DC-SIGN MF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4459320" y="1371600"/>
            <a:ext cx="4113360" cy="4113360"/>
            <a:chOff x="4459320" y="1371600"/>
            <a:chExt cx="4113360" cy="4113360"/>
          </a:xfrm>
        </p:grpSpPr>
        <p:sp>
          <p:nvSpPr>
            <p:cNvPr id="77" name=""/>
            <p:cNvSpPr/>
            <p:nvPr/>
          </p:nvSpPr>
          <p:spPr>
            <a:xfrm>
              <a:off x="6669000" y="2438280"/>
              <a:ext cx="1219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0000"/>
                  </a:solidFill>
                  <a:latin typeface="Arial"/>
                </a:rPr>
                <a:t>p=</a:t>
              </a: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0.008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97600" y="48769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830920" y="487692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</a:rPr>
                <a:t>medi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80" name="" descr=""/>
            <p:cNvPicPr/>
            <p:nvPr/>
          </p:nvPicPr>
          <p:blipFill>
            <a:blip r:embed="rId2"/>
            <a:stretch/>
          </p:blipFill>
          <p:spPr>
            <a:xfrm>
              <a:off x="4459320" y="1371600"/>
              <a:ext cx="4113360" cy="4113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81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58840" y="5715000"/>
            <a:ext cx="3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345360" y="556272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552600" y="4662360"/>
            <a:ext cx="154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.5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00440" y="4662360"/>
            <a:ext cx="146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116680" y="4662360"/>
            <a:ext cx="13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19000" y="1081080"/>
            <a:ext cx="111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1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990880" y="1081080"/>
            <a:ext cx="120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5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154480" y="1081080"/>
            <a:ext cx="139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LA-D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39760" y="207180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7348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83160" y="214776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2560" y="42814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2600" y="428148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102280" y="42051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42840" y="1376280"/>
            <a:ext cx="2468520" cy="319896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252520" y="1376280"/>
            <a:ext cx="2468880" cy="31989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4492800" y="1376280"/>
            <a:ext cx="2468520" cy="3198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772080" y="2286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380360" y="1066680"/>
            <a:ext cx="105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D4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236000" y="46483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921800" y="21337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311960" y="4267080"/>
            <a:ext cx="152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6672240" y="1374840"/>
            <a:ext cx="2468520" cy="319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1430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35268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56272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772400" y="521964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41972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743200" y="358128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17220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4680" y="36576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4936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5040" y="3352680"/>
            <a:ext cx="137160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163600" y="3352680"/>
            <a:ext cx="129564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301840" y="457200"/>
            <a:ext cx="91440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07664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925960" y="457200"/>
            <a:ext cx="8575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3040" y="3352680"/>
            <a:ext cx="117936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992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%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642080" y="457200"/>
            <a:ext cx="99072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P1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559640" y="3352680"/>
            <a:ext cx="1066680" cy="3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514600" y="9144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67080" y="12193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43600" y="1143000"/>
            <a:ext cx="114300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620120" y="2590920"/>
            <a:ext cx="1143000" cy="25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1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52116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457200" y="2971800"/>
            <a:ext cx="15238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209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038480" y="2971800"/>
            <a:ext cx="129564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2971800"/>
            <a:ext cx="144792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0120" y="2971800"/>
            <a:ext cx="129528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528156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1760400" y="304920"/>
            <a:ext cx="2102040" cy="2563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04920"/>
            <a:ext cx="2101680" cy="256356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7042320" y="304920"/>
            <a:ext cx="2101680" cy="256356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6629400" y="6400800"/>
            <a:ext cx="3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743200" y="3962520"/>
            <a:ext cx="9604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-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410080" y="3962520"/>
            <a:ext cx="122076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N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009960" y="6262560"/>
            <a:ext cx="9604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713560" y="6262560"/>
            <a:ext cx="79992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Symbol" charset="2"/>
              <a:buChar char="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00400" y="4343400"/>
            <a:ext cx="91440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867280" y="4419720"/>
            <a:ext cx="990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=0.03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1924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07080" y="5881680"/>
            <a:ext cx="1066680" cy="32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   MF/T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6"/>
          <a:stretch/>
        </p:blipFill>
        <p:spPr>
          <a:xfrm>
            <a:off x="2057400" y="3733920"/>
            <a:ext cx="2239920" cy="28558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7"/>
          <a:stretch/>
        </p:blipFill>
        <p:spPr>
          <a:xfrm>
            <a:off x="4876920" y="3733920"/>
            <a:ext cx="2239920" cy="285588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3772080" y="76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gure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05T23:01:09Z</dcterms:created>
  <dc:creator>N. I. A. I. D.</dc:creator>
  <dc:description/>
  <dc:language>en-US</dc:language>
  <cp:lastModifiedBy>N. I. A. I. D.</cp:lastModifiedBy>
  <dcterms:modified xsi:type="dcterms:W3CDTF">2004-08-05T23:34:39Z</dcterms:modified>
  <cp:revision>5</cp:revision>
  <dc:subject/>
  <dc:title>PowerPoint Presentation</dc:title>
</cp:coreProperties>
</file>