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40550" cy="9234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3AE24-0F53-4448-8A16-493228467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11AC8-EBD5-420F-AF66-7BA865413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183DA-24BA-490D-B549-10D731339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F16B7-2B70-49FF-BCA3-D7EF2A51E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5FAF4-66C6-4584-B51C-0CC900604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B2D0D-73AF-4175-B913-F59E9A346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5C865-AD2C-403B-A228-1D2FE0E17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BEC56-426C-46BE-83A4-C57522B62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30BBC-349C-486A-A8DA-651CF4F13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DCEA4-46DD-4E82-9301-B06BFF40D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25A4F-7E90-4A9E-A508-5FBD41BCE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1911C-2762-49BA-841F-1F282195C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DCB5C-B16A-4E07-9B6E-975C7B88C4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Verdana"/>
              </a:rPr>
              <a:t>POSITION CONTROL ADDITIONAL NOT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38080" y="1600200"/>
            <a:ext cx="6858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 backup method (e.g. flex shaft) of manually retracting the Pixel detectors will be add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method of attaching to the pixel support structure will likely change to one where the drive system is built up after the attachment is ma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mit switches will prevent the axes drives from exceeding the “kinematic range” of the mou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e next level of prototype will involve multiple axes and position feedba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xtensive life testing of the drive system prototype is plann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unctional test of kinematic mounts with CF half-cylinder 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-45396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valuate effect of magnetic materi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3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20T13:56:46Z</dcterms:created>
  <dc:creator>howell</dc:creator>
  <dc:description/>
  <dc:language>en-US</dc:language>
  <cp:lastModifiedBy>howell</cp:lastModifiedBy>
  <dcterms:modified xsi:type="dcterms:W3CDTF">2001-11-20T19:02:50Z</dcterms:modified>
  <cp:revision>1</cp:revision>
  <dc:subject/>
  <dc:title>POSITION CONTROL ADDITIONAL NOTES</dc:title>
</cp:coreProperties>
</file>