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93420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64736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4235040"/>
            <a:ext cx="289512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599840" y="76320"/>
            <a:ext cx="670572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423504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647360"/>
            <a:ext cx="438768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4235040"/>
            <a:ext cx="8991360" cy="2362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ff00ff"/>
              </a:buClr>
              <a:buSzPct val="68000"/>
              <a:buFont typeface="Monotype Sorts" charset="2"/>
              <a:buChar char="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Monotype Sort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229600" y="228600"/>
            <a:ext cx="9144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. Koeh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Root2001 Worksho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14-June-0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228680" cy="1228680"/>
          </a:xfrm>
          <a:prstGeom prst="rect">
            <a:avLst/>
          </a:prstGeom>
          <a:ln w="0">
            <a:noFill/>
          </a:ln>
        </p:spPr>
      </p:pic>
      <p:grpSp>
        <p:nvGrpSpPr>
          <p:cNvPr id="3" name=""/>
          <p:cNvGrpSpPr/>
          <p:nvPr/>
        </p:nvGrpSpPr>
        <p:grpSpPr>
          <a:xfrm>
            <a:off x="0" y="1447920"/>
            <a:ext cx="9132840" cy="75960"/>
            <a:chOff x="0" y="1447920"/>
            <a:chExt cx="9132840" cy="75960"/>
          </a:xfrm>
        </p:grpSpPr>
        <p:sp>
          <p:nvSpPr>
            <p:cNvPr id="4" name=""/>
            <p:cNvSpPr/>
            <p:nvPr/>
          </p:nvSpPr>
          <p:spPr>
            <a:xfrm>
              <a:off x="0" y="1447920"/>
              <a:ext cx="9132840" cy="38160"/>
            </a:xfrm>
            <a:prstGeom prst="rect">
              <a:avLst/>
            </a:prstGeom>
            <a:gradFill rotWithShape="0">
              <a:gsLst>
                <a:gs pos="0">
                  <a:srgbClr val="005f5f"/>
                </a:gs>
                <a:gs pos="50000">
                  <a:srgbClr val="00c0c0"/>
                </a:gs>
                <a:gs pos="100000">
                  <a:srgbClr val="005f5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1504800"/>
              <a:ext cx="9132840" cy="19080"/>
            </a:xfrm>
            <a:prstGeom prst="rect">
              <a:avLst/>
            </a:prstGeom>
            <a:gradFill rotWithShape="0">
              <a:gsLst>
                <a:gs pos="0">
                  <a:srgbClr val="b100b1"/>
                </a:gs>
                <a:gs pos="50000">
                  <a:srgbClr val="ff00ff"/>
                </a:gs>
                <a:gs pos="100000">
                  <a:srgbClr val="b100b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lick to edit the title text format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" name=""/>
          <p:cNvSpPr/>
          <p:nvPr/>
        </p:nvSpPr>
        <p:spPr>
          <a:xfrm>
            <a:off x="8244000" y="1146240"/>
            <a:ext cx="761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Page </a:t>
            </a:r>
            <a:fld id="{99AA0271-8705-47FC-8BEB-35C6EA000A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thep.lu.se/public_html/jetnet_30_manual/jetnet_30_manual.html" TargetMode="External"/><Relationship Id="rId2" Type="http://schemas.openxmlformats.org/officeDocument/2006/relationships/hyperlink" Target="http://www.thep.lu.se/public_html/jetnet_30_manual/jetnet_30_manual.html" TargetMode="External"/><Relationship Id="rId3" Type="http://schemas.openxmlformats.org/officeDocument/2006/relationships/hyperlink" Target="http://www.thep.lu.se/public_html/jetnet_30_manual/jetnet_30_manual.html" TargetMode="External"/><Relationship Id="rId4" Type="http://schemas.openxmlformats.org/officeDocument/2006/relationships/hyperlink" Target="http://www.thep.lu.se/public_html/jetnet_30_manual/jetnet_30_manual.html" TargetMode="External"/><Relationship Id="rId5" Type="http://schemas.openxmlformats.org/officeDocument/2006/relationships/hyperlink" Target="http://www.thep.lu.se/public_html/jetnet_30_manual/jetnet_30_manual.html" TargetMode="External"/><Relationship Id="rId6" Type="http://schemas.openxmlformats.org/officeDocument/2006/relationships/hyperlink" Target="http://www.thep.lu.se/public_html/jetnet_30_manual/jetnet_30_manual.html" TargetMode="External"/><Relationship Id="rId7" Type="http://schemas.openxmlformats.org/officeDocument/2006/relationships/hyperlink" Target="http://www.thep.lu.se/public_html/jetnet_30_manual/jetnet_30_manual.html" TargetMode="External"/><Relationship Id="rId8" Type="http://schemas.openxmlformats.org/officeDocument/2006/relationships/hyperlink" Target="http://www.thep.lu.se/public_html/jetnet_30_manual/jetnet_30_manual.html" TargetMode="External"/><Relationship Id="rId9" Type="http://schemas.openxmlformats.org/officeDocument/2006/relationships/hyperlink" Target="http://www.thep.lu.se/public_html/jetnet_30_manual/jetnet_30_manual.html" TargetMode="External"/><Relationship Id="rId10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cdfpc2.mps.ohio-state.edu/root_to_jetnet/rtj.html" TargetMode="External"/><Relationship Id="rId2" Type="http://schemas.openxmlformats.org/officeDocument/2006/relationships/hyperlink" Target="http://cdfpc2.mps.ohio-state.edu/root_to_jetnet/rtj.html" TargetMode="External"/><Relationship Id="rId3" Type="http://schemas.openxmlformats.org/officeDocument/2006/relationships/hyperlink" Target="http://cdfpc2.mps.ohio-state.edu/root_to_jetnet/rtj.html" TargetMode="External"/><Relationship Id="rId4" Type="http://schemas.openxmlformats.org/officeDocument/2006/relationships/hyperlink" Target="http://cdfpc2.mps.ohio-state.edu/root_to_jetnet/rtj.html" TargetMode="External"/><Relationship Id="rId5" Type="http://schemas.openxmlformats.org/officeDocument/2006/relationships/hyperlink" Target="http://cdfpc2.mps.ohio-state.edu/root_to_jetnet/rtj.html" TargetMode="External"/><Relationship Id="rId6" Type="http://schemas.openxmlformats.org/officeDocument/2006/relationships/hyperlink" Target="http://cdfpc2.mps.ohio-state.edu/root_to_jetnet/rtj.html" TargetMode="External"/><Relationship Id="rId7" Type="http://schemas.openxmlformats.org/officeDocument/2006/relationships/hyperlink" Target="http://cdfpc2.mps.ohio-state.edu/root_to_jetnet/rtj.html" TargetMode="External"/><Relationship Id="rId8" Type="http://schemas.openxmlformats.org/officeDocument/2006/relationships/hyperlink" Target="http://cdfpc2.mps.ohio-state.edu/root_to_jetnet/rtj.html" TargetMode="External"/><Relationship Id="rId9" Type="http://schemas.openxmlformats.org/officeDocument/2006/relationships/hyperlink" Target="http://cdfpc2.mps.ohio-state.edu/root_to_jetnet/rtj.html" TargetMode="External"/><Relationship Id="rId10" Type="http://schemas.openxmlformats.org/officeDocument/2006/relationships/hyperlink" Target="mailto:pkoehn@fnal.gov" TargetMode="External"/><Relationship Id="rId11" Type="http://schemas.openxmlformats.org/officeDocument/2006/relationships/hyperlink" Target="mailto:pkoehn@fnal.gov" TargetMode="External"/><Relationship Id="rId12" Type="http://schemas.openxmlformats.org/officeDocument/2006/relationships/hyperlink" Target="mailto:pkoehn@fnal.gov" TargetMode="External"/><Relationship Id="rId13" Type="http://schemas.openxmlformats.org/officeDocument/2006/relationships/hyperlink" Target="mailto:catutza@fnal.gov" TargetMode="External"/><Relationship Id="rId14" Type="http://schemas.openxmlformats.org/officeDocument/2006/relationships/hyperlink" Target="mailto:catutza@fnal.gov" TargetMode="External"/><Relationship Id="rId15" Type="http://schemas.openxmlformats.org/officeDocument/2006/relationships/hyperlink" Target="mailto:catutza@fnal.gov" TargetMode="External"/><Relationship Id="rId16" Type="http://schemas.openxmlformats.org/officeDocument/2006/relationships/hyperlink" Target="mailto:catutza@fnal.gov" TargetMode="External"/><Relationship Id="rId17" Type="http://schemas.openxmlformats.org/officeDocument/2006/relationships/hyperlink" Target="mailto:catutza@fnal.gov" TargetMode="External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801440" y="3865680"/>
            <a:ext cx="5840280" cy="268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DF/OSU Analysis with ROO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 Neural Net 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OT-based Standardized Ntu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essions and Requ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178000" y="1955880"/>
            <a:ext cx="4800600" cy="18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illip Koeh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 the OSU Group and CDF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oot2001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une 14, 20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62040" y="266760"/>
            <a:ext cx="670572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- Based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Analysis at CD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47920" y="19800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oing Analysis using STNTUPL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y to access low level and high level data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odular framework allows user to write more complicated analysis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: One edits, compiles, then runs a ROOT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en the ROOT script compiler is used, recompilation and reloading of a file about 2000 lines long takes of the order of 10 seconds on 500 MHz PentiumIII box.  You can modify your analysis, rerun it and see the results within a minu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cess 10k single track events from the XFT data block in about 15 second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ess painful introduction to C++ and a good way to learn and exercize ROOT- based analysis tool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: Data Block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tnDataBlock 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data written into Stntuple are organized in blocks, similar to the data blocks of HBOOK column-wise ntup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ach block corresponds to a top-level branch of ROOT 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tree can contain an arbitrary number of branches, so user can decide which branches to create/fill in the beginning of the jo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n analysis job can read only those branches which are necessary, improving the I/O performa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ata Block Typ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al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es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lc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u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p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mx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Cpr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Genp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Jet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et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EleDataBloc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StnMuonDataBl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Framework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e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 StnAna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class provi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 framework for data I/O and adding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pecify input/output Stntuple.root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 singly or chain multiple analysis modules togeth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elements of individual modules.         (e.g. Grab a set of pointers to e’s, mu’s, jet’s passing cuts, fitting, plotting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Run():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itiate the processing ev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StnModule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s the base class for analysis modu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s overloaded methods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BeginJob(), BeginRun(), Event(), EndJob(), EndRun(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Data Block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ccess methods and data members of other modules in the cha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mplement filter (or derive from StntupleFilterModule clas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oking, filling, plotting, and saving of histogram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ther module types include: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InitStntuple, StntupleMaker, StntupleF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507680" y="19800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Example Macro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-360" y="1647360"/>
            <a:ext cx="885492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Ana x("results/ttbar_prod_cdfSim.root")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Cand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ystem-&gt;CompileMacro("TTopFindModule.cc","k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Cand* tc  = new TTopCand("TopC","TopC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c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TopFindModule* tf = new TTopFindModule(tc,"TopFind","TopFind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AddModule(tf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StnOutputModule out("goodevent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SetOutputModule(&amp;out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.Run(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f-&gt;SaveHistograms("MyFavouriteHistos.root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we lik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t is easy to get up and running and do the basics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ast turn around time from editing to ru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riting command line shortcuts to manipulate hi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cessing the operating system from a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ized Ntuples – STntuple Classe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UI is nice, but we don’t really use it that muc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sources at the ROOT website are usefu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TALK - we get the most help from thi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Tutorial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OOT Class Categor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Documentation ar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difficulties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the ability to make ROOT crash of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ually need to recover by quitting then restart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loading code does not seem to work that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 would be helpful if the error output from crashes were more informa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gmentation violation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 co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’ve used the CINT debugger on simple macros.  It is useful, but we would like to debug compiled ROOT macros as wel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ave recently used gdb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d up doing things like running in th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race mod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:“ root[] .T ” or resorting to the insertion of print statem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equests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place on th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website other than the tutorials and ROOT Talk, where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ny use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may submit and search for co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ybe something like </a:t>
            </a:r>
            <a:r>
              <a:rPr b="1" lang="en-US" sz="2800" spc="-1" strike="noStrike" u="sng">
                <a:solidFill>
                  <a:srgbClr val="00c000"/>
                </a:solidFill>
                <a:uFillTx/>
                <a:latin typeface="Arial"/>
              </a:rPr>
              <a:t>hotscripts.com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ros do not have to be guaranteed to w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rganized by categories lik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istogramming/forma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Fit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bug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tc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Conclus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enjoy using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OO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and will continue to use it  for our needs as much as pos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75960"/>
            <a:ext cx="6300720" cy="1207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roduction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Motivation – Why ROOT 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want a tool that is easy to use for Histogramming, looping, cutting, fitting, plotting, and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DF Analysis Control framework is in C++, data structure is ROOT-based, ROOT has powerful and nice features, and it is written in C+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kill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have not taken advantage of the ROOT cours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rted with someone elses ROOT macro and moved on from the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 consult the ROOT web page often ( root.cern.ch 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ile faculty and post-docs have used PAW to do analysis before, grad-students have not  –  ROOT is the only analysis tool they have us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nalysis work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Artificial Neural Nets for measuring the single top cross section and the top Mass, and B-tagging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standard ntuples composed of multi-branched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0000" y="26208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of ROOT that we use are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648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itting with ROO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ing canned functions:         root[] myhist.Fit(“gaus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User specified functions:          root[] myhist.Fit(“MyFcn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r fitting a histogram to two or more with the TMinuit clas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minuit *gMinuit = Tminuit(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LogLiklihoodFcn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setFcn(ChiSqFcn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Minuit-&gt;mnexcm(“MIGRAD”,args,,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ing gSystem class to interact with operating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CompileMacro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Load(“myLib.so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System-&gt;Exec(AnyEx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489040" y="6620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76320" y="1647360"/>
            <a:ext cx="4419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Tr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 ROOT trees from CDF analysis control Framework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ake new ROOT trees from our own mac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Macros with Make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TFile f(“myfile.root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[] MakeClass(“myana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ooping, cutting, histogramming, plotting, writing histos to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OT G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uching up plo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Browser to check contents of root tre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198360"/>
            <a:ext cx="6300720" cy="1208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Basic elements continued…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Add our own overloaded methods to global_init.C that serve as </a:t>
            </a:r>
            <a:r>
              <a:rPr b="1" lang="en-US" sz="2400" spc="-1" strike="noStrike">
                <a:solidFill>
                  <a:srgbClr val="00c000"/>
                </a:solidFill>
                <a:latin typeface="Arial"/>
              </a:rPr>
              <a:t>command line shortcuts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 for manipulating his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Zoning canvases, adding titles, changing divis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ral Draw() methods to change histogram attributes such as color, marker type, etc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mp bin cont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rmalizing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tio and efficiency of 2 histograms, compute the errors, and create new histogra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ke the integral of a histogram, and plot the new 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tting histos (canned or user defined), and subranges of histos, and printing fit resul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ing, ghostviewing,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52352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ROOT to JETNET </a:t>
            </a:r>
            <a:br>
              <a:rPr sz="4400"/>
            </a:b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1855800"/>
            <a:ext cx="8934480" cy="450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 our analysis work we have been using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eed Forward Neural Networks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implemented with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JETNET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100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signed for HEP applications and easy to get up and run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collection of FORTRAN subroutines for training/testing NN’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onymous ftp from: thep.lu.se (latest version 3.5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thep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l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.se/public_htm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_30_manual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_30_manual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itially, we worked with many little macros to interact with JETNET and to analyze the performance of our Neural Ne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We ended up pulling these together into a ROOT macro consisting of methods that provide a flexible and simple interface to setup ANN’s and run them with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3240" y="24408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ROOT/JETNET</a:t>
            </a:r>
            <a:br>
              <a:rPr sz="3600"/>
            </a:br>
            <a:r>
              <a:rPr b="0" lang="en-US" sz="3600" spc="-1" strike="noStrike">
                <a:solidFill>
                  <a:srgbClr val="0000ff"/>
                </a:solidFill>
                <a:latin typeface="Book Antiqua"/>
              </a:rPr>
              <a:t> Overview</a:t>
            </a:r>
            <a:endParaRPr b="0" lang="en-US" sz="36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omposed of two component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OOT macro (root_to_jetnet.C) uses </a:t>
            </a:r>
            <a:r>
              <a:rPr b="1" lang="en-US" sz="1800" spc="-1" strike="noStrike">
                <a:solidFill>
                  <a:srgbClr val="00c000"/>
                </a:solidFill>
                <a:latin typeface="Arial"/>
              </a:rPr>
              <a:t>command lin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ethods 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 up the Neural Net parameters (text file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e the training/testing/running of the Neural Ne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ot input variables, NN performance, error, and output distributio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.C code to compute the Neural Net output based on the weight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macro is modified by user according to individual need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JETNET .exe (FORTR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ads Neural Net parameter file created by ROOT mac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forms training/testing with JETNET subroutin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reates performance and weights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800080"/>
              </a:buClr>
              <a:buSzPct val="155000"/>
              <a:buFont typeface="Monotype Sorts" charset="2"/>
              <a:buChar char="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r will not(or rarely) need to change i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Released for general consumpti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"/>
              </a:rPr>
              <a:t>http://cdfpc2.mps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2"/>
              </a:rPr>
              <a:t>ohio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3"/>
              </a:rPr>
              <a:t>-state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4"/>
              </a:rPr>
              <a:t>edu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5"/>
              </a:rPr>
              <a:t>/root_to_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6"/>
              </a:rPr>
              <a:t>jetnet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7"/>
              </a:rPr>
              <a:t>/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8"/>
              </a:rPr>
              <a:t>rtj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9"/>
              </a:rPr>
              <a:t>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CVS repository at C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0"/>
              </a:rPr>
              <a:t>pkoehn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1"/>
              </a:rPr>
              <a:t>@fnal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2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3"/>
              </a:rPr>
              <a:t>catutza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4"/>
              </a:rPr>
              <a:t>@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5"/>
              </a:rPr>
              <a:t>fnal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6"/>
              </a:rPr>
              <a:t>.</a:t>
            </a:r>
            <a:r>
              <a:rPr b="0" lang="en-US" sz="1800" spc="-1" strike="noStrike" u="sng">
                <a:solidFill>
                  <a:srgbClr val="00c000"/>
                </a:solidFill>
                <a:uFillTx/>
                <a:latin typeface="Arial"/>
                <a:hlinkClick r:id="rId17"/>
              </a:rPr>
              <a:t>gov</a:t>
            </a:r>
            <a:r>
              <a:rPr b="1" lang="en-US" sz="1800" spc="-1" strike="noStrike" u="sng">
                <a:solidFill>
                  <a:srgbClr val="00c000"/>
                </a:solidFill>
                <a:uFillTx/>
                <a:latin typeface="Arial"/>
              </a:rPr>
              <a:t>, neu@fnal.gov</a:t>
            </a:r>
            <a:r>
              <a:rPr b="1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99840" y="76320"/>
            <a:ext cx="67057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Using the Interface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put fi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ain a global set of all possible inputs one may choos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ed by us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 file per sample (signal, bkg1, bkg2, …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Row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Events)  and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Columns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Pattern Variables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Set the parameters of the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hoose input variables, the number of hidden and output nodes, the number of events to train and test, minimization method, the number of training cycles, etc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un JET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s: single shot, loop over input nodes, loop over the number hidden nodes, loop over combinations of bo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duces output files: performance, error, and resultant NN weigh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Plot the results of your neural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erformance, error,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Use the 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451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pply the C-code that computes the neural net outpu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69600" y="182160"/>
            <a:ext cx="67057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What features of ROOT were the most helpful?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’re running just a simple interpreted mac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fficien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 a command line interface and graphics too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action with the operating syst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 work processing the NN is done by the fortran jetnet.exe –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00c000"/>
                </a:solidFill>
                <a:latin typeface="Arial"/>
              </a:rPr>
              <a:t>run from the ROOT macro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We have converted the macro into a class that may be compil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sier to add methods and keep track of cod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ll not run much faster as most of the execution time is in running the fortran jetnet.exe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463760" y="18216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ff"/>
                </a:solidFill>
                <a:latin typeface="Book Antiqua"/>
              </a:rPr>
              <a:t>STNTUPLE: ROOT based standardized ntuple.</a:t>
            </a:r>
            <a:endParaRPr b="0" lang="en-US" sz="4400" spc="-1" strike="noStrike">
              <a:solidFill>
                <a:srgbClr val="0000ff"/>
              </a:solidFill>
              <a:latin typeface="Book Antiqu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320" y="1647360"/>
            <a:ext cx="8991360" cy="4953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losely related components: a data format and a set of utility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veloped by P. Murat, R. Culbertson, R. Hughes, A. Domingues,       S. Sarkar, and H. Stad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data format is a multibranched ROOT tre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ted with a Stntuple (CDF Analysis Control) Module running on input raw or processed da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constructed data objects such as e’s, muons, taus, photons etc... Several RAW data branches are also included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ne can add new branches to the standard ones, and to switch off filling of the branches one doesn't ne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The utility classes provide access to the d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0c0"/>
              </a:buClr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mplemented in a framework for specialized or user defined analysis module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30T12:03:29Z</dcterms:created>
  <dc:creator>Andy Romero</dc:creator>
  <dc:description/>
  <dc:language>en-US</dc:language>
  <cp:lastModifiedBy>CDFUser</cp:lastModifiedBy>
  <cp:lastPrinted>2000-09-08T21:50:47Z</cp:lastPrinted>
  <dcterms:modified xsi:type="dcterms:W3CDTF">2001-06-14T13:58:22Z</dcterms:modified>
  <cp:revision>538</cp:revision>
  <dc:subject/>
  <dc:title>Subproject DOE Rev talk v1.0</dc:title>
</cp:coreProperties>
</file>