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9240838" cy="6951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6438E-BC42-471B-8BEF-4C965949714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7FB403-3420-4EF7-803A-4199FA835E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79E4E2-2EA2-4EC9-B6A9-26EE1A6C0A6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E8688-B3A8-4CDA-9CBC-EF83813B1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3E507-6BB4-4569-A67B-89B28AF558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0912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36760" y="129492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1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0912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36760" y="2920680"/>
            <a:ext cx="250236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F1114-F0D6-4C50-91C2-46AB23A698B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995429-12D9-40F7-B490-09F397E03E0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88CB6E-554E-46D3-BCFB-9232E586D6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133200"/>
            <a:ext cx="777240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5E6A0-CA12-4936-956F-F217EEC41B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7E9ED-02FE-4DD7-BC27-A0F3F7ED5DA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3800" y="292068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5DA183-BC57-4310-BC26-2A51FFFA9C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71280"/>
            <a:ext cx="77724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3800" y="1294920"/>
            <a:ext cx="37926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1120" y="2920680"/>
            <a:ext cx="7772400" cy="148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6CF989-0739-4098-B04B-04EC2F5A66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1120" y="1294920"/>
            <a:ext cx="7772400" cy="311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50320"/>
              </a:buClr>
              <a:buSzPct val="6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3" marL="16002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4" marL="2057400" indent="-228600"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5800" y="152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303120" y="922320"/>
            <a:ext cx="8531280" cy="684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4f41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086A-BB5F-4846-9C37-495CFF89FA4E}" type="slidenum">
              <a:rPr b="0" lang="en-US" sz="1400" spc="-1" strike="noStrike">
                <a:solidFill>
                  <a:srgbClr val="04f415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Click to edit the title text format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31920" y="1397160"/>
            <a:ext cx="8532720" cy="680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00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5032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lvl="1" marL="457200" indent="0" algn="ct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econd Outline Level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2" marL="9144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Third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3" marL="13716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our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4" marL="1828800" algn="ctr">
              <a:lnSpc>
                <a:spcPct val="85000"/>
              </a:lnSpc>
              <a:spcBef>
                <a:spcPts val="601"/>
              </a:spcBef>
              <a:buClr>
                <a:srgbClr val="00ff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Fif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5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ix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  <a:p>
            <a:pPr lvl="6" marL="182880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ff00"/>
                </a:solidFill>
                <a:latin typeface="Times New Roman"/>
              </a:rPr>
              <a:t>Seventh Outline Level</a:t>
            </a:r>
            <a:endParaRPr b="1" lang="en-US" sz="2400" spc="-1" strike="noStrike">
              <a:solidFill>
                <a:srgbClr val="00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mailto:Barbara.Jacak@stonybrook.edu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46240" y="228240"/>
            <a:ext cx="8618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2dfa"/>
                </a:solidFill>
                <a:latin typeface="Times New Roman"/>
              </a:rPr>
              <a:t>summary</a:t>
            </a:r>
            <a:endParaRPr b="1" lang="en-US" sz="36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980720" y="1993680"/>
            <a:ext cx="4940280" cy="299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Impossible!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50320"/>
                </a:solidFill>
                <a:latin typeface="Times New Roman"/>
              </a:rPr>
              <a:t>But the slides are on the web</a:t>
            </a:r>
            <a:endParaRPr b="0" lang="en-US" sz="28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 happened here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1120" y="1295280"/>
            <a:ext cx="7772400" cy="244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errific cultural enrichment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We made new conne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ther ways to look at our favorite phys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New people to talk t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What’s next?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1120" y="1294920"/>
            <a:ext cx="7772400" cy="45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dentify common problems to pursue further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I’ll show a strawman set of problem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n’t throw rocks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row emails to </a:t>
            </a:r>
            <a:r>
              <a:rPr b="1" lang="en-US" sz="2400" spc="-1" strike="noStrike" u="sng">
                <a:solidFill>
                  <a:srgbClr val="f50320"/>
                </a:solidFill>
                <a:uFillTx/>
                <a:latin typeface="Times New Roman"/>
                <a:hlinkClick r:id="rId1"/>
              </a:rPr>
              <a:t>Barbara.Jacak@stonybrook.edu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Pursue possibility of a workshop at theory venu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e.g. ITP Santa Barbar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Arrange cross-disciplinary talks/session at APS meetings (DPP, DNP, DAMOP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0760" y="1092240"/>
            <a:ext cx="8204040" cy="521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Thermalization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fast can the systems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o they actuall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HOW do they thermaliz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collisions (of what) vs. interaction with (collective) field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Models &amp; their validity rang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Kinetic models for collective process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2dfa"/>
                </a:solidFill>
                <a:latin typeface="Times New Roman"/>
              </a:rPr>
              <a:t>Hydrodynam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Correlations among particles in strongly coupled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Affect density structure of plasma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Should give rise to correlations also in the final state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Times New Roman"/>
              </a:rPr>
              <a:t>Quasi-bound states, EO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332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2dfa"/>
                </a:solidFill>
                <a:latin typeface="Times New Roman"/>
              </a:rPr>
              <a:t>Common problems, ctd.</a:t>
            </a:r>
            <a:endParaRPr b="1" lang="en-US" sz="3200" spc="-1" strike="noStrike">
              <a:solidFill>
                <a:srgbClr val="042dfa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7520" y="1294920"/>
            <a:ext cx="8136000" cy="47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What happens when systems get dilute?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802c3"/>
                </a:solidFill>
                <a:latin typeface="Times New Roman"/>
              </a:rPr>
              <a:t>Recombination and final state interac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50320"/>
              </a:buClr>
              <a:buSzPct val="8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ystems are short-lived!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tudy space-time evolution through time integrated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observables (radiation or probes)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st figure out how to use correlations to extract 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Use of final state cluster distributions for initial state info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Diagnostics of collective motion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multiparticle emission variabl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	</a:t>
            </a:r>
            <a:r>
              <a:rPr b="1" lang="en-US" sz="2400" spc="-1" strike="noStrike">
                <a:solidFill>
                  <a:srgbClr val="f50320"/>
                </a:solidFill>
                <a:latin typeface="Times New Roman"/>
              </a:rPr>
              <a:t>single particles in multiparticle field, acoustic waves</a:t>
            </a:r>
            <a:endParaRPr b="1" lang="en-US" sz="2400" spc="-1" strike="noStrike">
              <a:solidFill>
                <a:srgbClr val="f5032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1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26T12:36:13Z</dcterms:created>
  <dc:creator>jacak</dc:creator>
  <dc:description/>
  <dc:language>en-US</dc:language>
  <cp:lastModifiedBy>Barbara Jacak</cp:lastModifiedBy>
  <cp:lastPrinted>2001-07-07T21:18:00Z</cp:lastPrinted>
  <dcterms:modified xsi:type="dcterms:W3CDTF">2004-12-18T11:42:51Z</dcterms:modified>
  <cp:revision>286</cp:revision>
  <dc:subject/>
  <dc:title>No Slide Title</dc:title>
</cp:coreProperties>
</file>