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8C71C-994B-424A-8BFA-7DEC952BC0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CCC7-2DB9-4952-AEA0-57EA7B06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F3828-E037-4E63-8C38-654372B2F7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DB62-50E5-451E-9A45-F1261CB05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6366-68F8-40F8-B8E8-987DC3CF0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0C7C-6342-4347-A0D9-C0C1CEB32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5E97-006C-44FF-9DFA-1D99E4979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C8F68-B997-41CA-AE7D-62C2BE518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22C23-A888-4B40-BA4C-5EEB703B2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F5D2F-8C6A-48ED-96FF-9D1055C70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BEDD-B128-4201-B3EC-D36726E4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90623-C088-4446-84DE-06BE00301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10CF9-2D6D-459E-BF2F-894C17B53FA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4920" y="-1440"/>
          <a:ext cx="6095880" cy="369720"/>
        </p:xfrm>
        <a:graphic>
          <a:graphicData uri="http://schemas.openxmlformats.org/drawingml/2006/table">
            <a:tbl>
              <a:tblPr/>
              <a:tblGrid>
                <a:gridCol w="6095880"/>
              </a:tblGrid>
              <a:tr h="369720">
                <a:tc>
                  <a:txBody>
                    <a:bodyPr lIns="90000" rIns="90000" tIns="144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e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08:14:52Z</dcterms:created>
  <dc:creator>ジョンシャーフ</dc:creator>
  <dc:description/>
  <dc:language>en-US</dc:language>
  <cp:lastModifiedBy>ジョンシャーフ</cp:lastModifiedBy>
  <dcterms:modified xsi:type="dcterms:W3CDTF">2015-04-16T08:22:12Z</dcterms:modified>
  <cp:revision>9</cp:revision>
  <dc:subject/>
  <dc:title>PowerPoint プレゼンテーション</dc:title>
</cp:coreProperties>
</file>