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FB17-1926-45C8-BD6B-E79D3FF32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9935-2472-4C26-8C0B-874D2F6F1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20B70-C8ED-41DA-9486-279AEA709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363E-A3B3-4E8E-B4E8-48C6B1A2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D81F-3E4B-4340-8590-6860CB6E6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E92A6-3135-462D-A333-FCFC1FE20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6CF4F-6A85-468F-8A70-B597E4D08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62DE7-D6AF-44EE-9CC7-BC1D35747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50EC-27C6-408D-B4CE-F5401DC65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C310CA-882F-40D9-9078-6C7A7F080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5F9F0-79C9-46F3-8442-91722D80A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8545E-3CBC-4418-B543-68B0B49AA6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C6F0B-BEBE-47F9-879D-96622BD0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F1201-6E5F-43BF-9B94-9DDE437DC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A88DD-AD84-4D1B-903A-D8C228C99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35F9-0A83-43F1-A492-AE6FD606E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D1761-101F-4F12-965B-5C89BDA4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38A7E-E94D-4EEB-AE8E-EE61DF31F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A282-E6EC-4815-BEB2-AC61898D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D8540-C05F-4C13-AE3C-1E26629D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420EA-9350-4C43-A50B-73DA45CC9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A819-A5D8-4CBC-B83D-1CB9A57E7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86C4C-1880-47F1-979E-B23DF35A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CC621-7A5A-4E64-9115-F984BDC99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68000" y="623700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8505DAB3-837A-4CCC-9F58-7808C2647573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8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343080" indent="-343080"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2528E-2744-4CDC-85AB-E9C15981E56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3132000" y="5300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</a:t>
            </a:r>
            <a:fld id="{F64F0270-1752-4A67-8291-1E9164BE8AD1}" type="datetime13">
              <a:rPr b="1" lang="zh-CN" sz="2000" spc="-1" strike="noStrike">
                <a:solidFill>
                  <a:srgbClr val="000000"/>
                </a:solidFill>
                <a:latin typeface="Arial"/>
              </a:rPr>
              <a:t>上午 05:38:12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 </a:t>
            </a:r>
            <a:fld id="{C557F01B-E1C5-4EA4-B602-028A3A2347E4}" type="datetime13">
              <a:rPr b="0" lang="zh-CN" sz="1400" spc="-1" strike="noStrike">
                <a:solidFill>
                  <a:srgbClr val="000000"/>
                </a:solidFill>
                <a:latin typeface="Arial"/>
              </a:rPr>
              <a:t>上午 05:38:12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DBDAC-60FF-4AAA-8CAF-FEE8F38711A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476360" y="1125360"/>
            <a:ext cx="1657440" cy="649440"/>
          </a:xfrm>
          <a:prstGeom prst="ellipse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7T12:33:09Z</dcterms:created>
  <dc:creator>Han Jie</dc:creator>
  <dc:description/>
  <dc:language>en-US</dc:language>
  <cp:lastModifiedBy>Han Jie</cp:lastModifiedBy>
  <dcterms:modified xsi:type="dcterms:W3CDTF">2008-12-27T10:09:03Z</dcterms:modified>
  <cp:revision>213</cp:revision>
  <dc:subject/>
  <dc:title>幻灯片 1</dc:title>
</cp:coreProperties>
</file>