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FA9A-5BE8-4084-94AB-1BEE052B5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EAC1-E7C5-4CF3-B2FE-992C4F477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130FF-0A3A-4F35-8C1A-7391F9456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4BEAF-8A59-40F9-BF4A-0E41A2A4E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C1CCB-6E46-4CA7-ADAA-0678D896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429C-B266-47C3-A2B9-2EA13E4447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06E7B-4F92-4A72-8904-11D07E11D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B2362A-A251-4A0B-9FD8-4ADB5E8CC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A246F-D275-4061-9219-2BCD1B3A9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B711-B11F-4236-B291-55ED5E343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5C5E2-3B8A-4086-9642-2F72581C6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CBD1-4FAF-40A1-B782-1F8425578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A47BE-6307-4330-BB15-952E50BA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4B859-8AE9-4693-9E95-2911E2CDED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F6FA7-CEFF-492A-B777-090AAF4CB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B60DFC-3028-4BB3-A7DB-36D1C0854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88D72-0A2A-4B30-AE2B-99F73FED5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742-9161-4994-B571-9E1C1210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7ACEF-5856-4054-BDC8-109402499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770C-3237-4B8C-A3F7-FBCC8F8C1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DEEF-1DFA-4704-80EF-FAE2B2528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3C77A-6B41-43F3-8802-CA0F9E7EB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29F9-245B-4750-AF09-E64AE0872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379F-1C08-44BB-AF18-F5CAD954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0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3F3D24-67F1-4205-979B-B07C9D4EF7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4" name=""/>
          <p:cNvGraphicFramePr/>
          <p:nvPr/>
        </p:nvGraphicFramePr>
        <p:xfrm>
          <a:off x="4114800" y="1293840"/>
          <a:ext cx="50292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1293840"/>
                    <a:ext cx="50292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b9252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F380-4F42-44FE-8920-4860B07B33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2195640" y="990720"/>
          <a:ext cx="4738680" cy="871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195640" y="990720"/>
                    <a:ext cx="47386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0" y="0"/>
            <a:ext cx="9144000" cy="609480"/>
          </a:xfrm>
          <a:prstGeom prst="rect">
            <a:avLst/>
          </a:prstGeom>
          <a:solidFill>
            <a:srgbClr val="2e38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cio.gov/eauthentication" TargetMode="External"/><Relationship Id="rId2" Type="http://schemas.openxmlformats.org/officeDocument/2006/relationships/hyperlink" Target="http://www.cio.gov/fpkipa" TargetMode="External"/><Relationship Id="rId3" Type="http://schemas.openxmlformats.org/officeDocument/2006/relationships/hyperlink" Target="http://csrc.nist.gov/" TargetMode="External"/><Relationship Id="rId4" Type="http://schemas.openxmlformats.org/officeDocument/2006/relationships/hyperlink" Target="http://www.cio.gov/ficc" TargetMode="External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overnment-University Identity Management Opportunit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Peter Alterman, Ph.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hair, U.S. Federal PKI Policy Authority 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ssistant CIO/E-Authentication, NI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LOA Mapping E-Auth to Fed PKI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609480" y="1295280"/>
            <a:ext cx="3048120" cy="3962520"/>
            <a:chOff x="609480" y="1295280"/>
            <a:chExt cx="3048120" cy="3962520"/>
          </a:xfrm>
        </p:grpSpPr>
        <p:sp>
          <p:nvSpPr>
            <p:cNvPr id="121" name=""/>
            <p:cNvSpPr/>
            <p:nvPr/>
          </p:nvSpPr>
          <p:spPr>
            <a:xfrm>
              <a:off x="609480" y="12952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09480" y="2286000"/>
              <a:ext cx="3048120" cy="99036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09480" y="327636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09480" y="4267080"/>
              <a:ext cx="3048120" cy="990720"/>
            </a:xfrm>
            <a:prstGeom prst="rect">
              <a:avLst/>
            </a:prstGeom>
            <a:solidFill>
              <a:srgbClr val="0000ff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E-Auth Level 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5181480" y="1295280"/>
            <a:ext cx="3048120" cy="4952880"/>
            <a:chOff x="5181480" y="1295280"/>
            <a:chExt cx="3048120" cy="4952880"/>
          </a:xfrm>
        </p:grpSpPr>
        <p:sp>
          <p:nvSpPr>
            <p:cNvPr id="126" name=""/>
            <p:cNvSpPr/>
            <p:nvPr/>
          </p:nvSpPr>
          <p:spPr>
            <a:xfrm>
              <a:off x="5181480" y="12952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Rudimentary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C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181480" y="4267080"/>
              <a:ext cx="3048120" cy="99036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/HW &amp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/HW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181480" y="22856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Basi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5181480" y="327636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Medium 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Medium-cbp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5181480" y="5257440"/>
              <a:ext cx="3048120" cy="990720"/>
            </a:xfrm>
            <a:prstGeom prst="rect">
              <a:avLst/>
            </a:prstGeom>
            <a:solidFill>
              <a:srgbClr val="ff0000">
                <a:alpha val="3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1800"/>
              </a:b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FPKI High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Tahoma"/>
                </a:rPr>
                <a:t>(governments only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 flipH="1">
            <a:off x="3657240" y="198108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657240" y="2895480"/>
            <a:ext cx="1523880" cy="838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3657240" y="3886200"/>
            <a:ext cx="1523880" cy="152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3657240" y="4800600"/>
            <a:ext cx="1523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 flipV="1">
            <a:off x="3657240" y="5029200"/>
            <a:ext cx="1523880" cy="9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38C5-E6A0-41C1-834B-FF15DAA9E70B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How Can A School Credential be Trusted and Used by a Government Application?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eferred pa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 joins an Identity Federation that has policy and technology interoperability agreements with E-Authentication Feder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Each Federation agrees to ensure its members operate according to minimum requirements for members of the other’s Fede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Presumes substantive policy, technology and management commona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choo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becomes a member Credential Service Provider (CSP) of the E-Authentication Federation directly, signing on to the Federation’s technology, business, operating and legal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ternate path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–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One-to-one relationships (</a:t>
            </a: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sssh!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49CD-433F-427C-BF57-60A1F1C937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US Government E-Authentication Interfederation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3619440" y="1709640"/>
            <a:ext cx="1905120" cy="3438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D32A0-6664-4E91-A222-C969C1D8A5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Federation Membership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9252e"/>
                </a:solidFill>
                <a:latin typeface="Arial"/>
              </a:rPr>
              <a:t>Credential service providers [CSP] submit to credential assessment and evaluation of LO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e3861"/>
                </a:solidFill>
                <a:latin typeface="Arial"/>
              </a:rPr>
              <a:t>Both Application providers and CSPs sign on to Federation business and operating “standards,” legal agreemen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A2BDD-2868-44AC-B45B-DE0C782FA43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– InCommon Interfederation Stat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dor requires this disclaimer: </a:t>
            </a: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they’re still trying to figure it out after two years and two t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status: </a:t>
            </a: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Said to be getting close with inCommon.  Policy-grounded MOA on the table and molding; technical interoperability targeted for SAML 2.0; USPerson profile analog of eduPerson profile in 2.0 version but still pretty much generi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inCommon needs to up its policy, procedures, documentation and audit requirements to play long-te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E-Authentication needs to up its privacy prot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ECF8-EF56-4419-BF58-1B7D0DC6D7F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117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Fed PKI “Interfederation”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447920" y="1752480"/>
            <a:ext cx="6172200" cy="4041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94E9C-4DF9-472F-8418-59FCF7D0D50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ed PKI Cross Certification Process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pplication - LOA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Policy Mapp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ping Matrices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ert Policy WG mapping revie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llegial back and forth discuss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echnical Interoperability Test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esting Protocol onl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rectory and profiles tested (LDAP and/or X.500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eview of summary of independent audit resul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p CP –&gt; CPS and CPS -&gt; PKI Oper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dependent auditors, not FPKI audito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Whole process laid out in “Criteria &amp;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5943600" y="2209680"/>
            <a:ext cx="1878120" cy="1441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1978-54A2-4CDB-BAF9-25BD3BED10F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PKI </a:t>
            </a:r>
            <a:r>
              <a:rPr b="1" i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Does</a:t>
            </a: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 Interfedera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ed (test) with Higher Education PKI Bridge, 01/20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Cross-certified (production) with CertiPath – Aerospace Industry PKI Bridge at Medium Hardware (EAuth Level 4), 07/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e3861"/>
                </a:solidFill>
                <a:latin typeface="Arial"/>
              </a:rPr>
              <a:t>Cross-certification under way with SAFE-Biopharma PKI Bridge, Medium and Medium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9252e"/>
                </a:solidFill>
                <a:latin typeface="Arial"/>
              </a:rPr>
              <a:t>Processes and procedures spelled out in “Criteria and Methodology” Document on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5157720" y="1600200"/>
            <a:ext cx="3019320" cy="4525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0868F-B543-4E1E-82DA-66F15F94C05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urrent Model for Assertion-Based Interfederation (still a work in progres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-Authentication Federation and InCommon to interfederate at LOA 1 (!), E-Auth is requiring InC 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upgrade its policy, audit and management infrastructure to comply with EAuth model, e.g., compliance with Credential Assessment Framework for LOA 1, signing Business and Operating Standards and sign Legal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e3861"/>
                </a:solidFill>
                <a:latin typeface="Arial"/>
              </a:rPr>
              <a:t>Satisfy technical interoperability testing using SAML 1.0 technology, though work is proceeding to migrate to SAML 2.0 technolo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Common has designated this state of operation “InCommon Bronz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tibility with E-Authentication requirements for LOA 2 is called “InCommon Silver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AD82-43F9-4A42-BD3D-FB817667703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hat about Level 3 Government Apps Today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versities issuing PKI-based electronic credentials may cross-certify with the Federal PKI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Ex. MIT Lincoln Lab, University of Texas System (in proc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2e386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Usually 3 – 6 month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acquire digital certificates from a vendor currently cross-certified with the Federal Bridge at Basic assurance or abov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b9252e"/>
                </a:solidFill>
                <a:uFillTx/>
                <a:latin typeface="Arial"/>
              </a:rPr>
              <a:t>Many</a:t>
            </a:r>
            <a:r>
              <a:rPr b="0" i="1" lang="en-US" sz="2400" spc="-1" strike="noStrike">
                <a:solidFill>
                  <a:srgbClr val="b9252e"/>
                </a:solidFill>
                <a:latin typeface="Arial"/>
              </a:rPr>
              <a:t>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A9E47-EB96-49EC-9154-F172A79F4C7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urrent State of Affairs (60 years old now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61"/>
                </a:solidFill>
                <a:latin typeface="Arial"/>
              </a:rPr>
              <a:t>You apply to the application owner for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use the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The application owner gives you a new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 use the new password to access th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You forget the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e38c5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e38c5"/>
                </a:solidFill>
                <a:latin typeface="Arial"/>
              </a:rPr>
              <a:t>&lt;infinite do loop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identity proof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9252e"/>
                </a:solidFill>
                <a:latin typeface="Arial"/>
              </a:rPr>
              <a:t>No way to know who is actually on the system (Your secretary? Your postdoc? Your dog? Osama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11DF-76C1-494E-8080-71D6DC6CE43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Seeded Ques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What about the recent DOD notice that PKI individual certs are required for access to their web resources.  Will DOD sites ever trust university-issued certificates for access or will we have to shell out $$ to get to the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If you think YOU are fussing about this, imagine how furious State Dep’t. and NASA are.  Imagine how furious their contractors 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We (Fed PKI) have been talking to DOD about this issue and we hope to see progress in 2007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Q:  What the heck is “password entropy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: See next sl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AAA46-EBCE-484F-BA2C-42A2CE2B3DD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assword Entropy (Copied From Bill Burr)*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opy is measure of randomness in a pass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Stated in bits, a password with 24 bits of entropy is as hard to guess as a 24 bit random num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The more entropy required in the password, the more trials the system can allow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’s easy to calculate the entropy of a system-generated, random password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i="1" lang="en-US" sz="2000" spc="-1" strike="noStrike">
                <a:solidFill>
                  <a:srgbClr val="b9252e"/>
                </a:solidFill>
                <a:latin typeface="Arial"/>
              </a:rPr>
              <a:t>—But users can’t remember th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harder to estimate the entropy of user-chosen pass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b9252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b9252e"/>
                </a:solidFill>
                <a:latin typeface="Arial"/>
              </a:rPr>
              <a:t>Composition rules and dictionary rules may increase entrop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671120" y="5918040"/>
            <a:ext cx="32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*NIST KBA Symposium, Feb. 9, 200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D358-18ED-4A2B-AC15-CBA3191C2D3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sour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1"/>
              </a:rPr>
              <a:t>www.cio.gov/eauthentic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2"/>
              </a:rPr>
              <a:t>www.cio.gov/fpki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3"/>
              </a:rPr>
              <a:t>http://csrc.nist.gov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252e"/>
                </a:solidFill>
                <a:uFillTx/>
                <a:latin typeface="Arial"/>
                <a:hlinkClick r:id="rId4"/>
              </a:rPr>
              <a:t>www.cio.gov/fic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FEAD-71E5-49D7-B60C-75EC15A500A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.) How does your institution issue IDs? Is there a signature stat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quiring photo ID? What about non-resident scientists from Japan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) What is password entropy? Complex vs. long passwords. How often mus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y be changed? Can they be re-used? Pass dictionary test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3.) How secure is the authentication infrastructure? Can one pers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jeopardize the process? How are ID records stored?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.) How is the process documented? Are there templates to use as a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amework that will pass Federal standards?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B3DB-80FD-421C-8235-E915C3B7A96A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Foundational Assump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b9252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Government online services shall trust externally-issued electronic identity credentials at known levels of assurance (LO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e386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Online applications shall determine required credential LOA using a standard methodology based 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Risk assessment using standard tool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OMB M-04-04 determines required authN LO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90000"/>
              </a:lnSpc>
              <a:spcBef>
                <a:spcPts val="601"/>
              </a:spcBef>
              <a:buClr>
                <a:srgbClr val="2e3861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2e3861"/>
                </a:solidFill>
                <a:latin typeface="Arial"/>
              </a:rPr>
              <a:t>NIST SP 800-63 translates required LOA to credential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F10D9-BE01-4DC0-B765-A676D48DDEE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Me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ttle or no assurance of identity; assertion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assurance of identity; assertion-based identity authentication or policy-thin PK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bstantial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gh assurance of identity; cryptographically-based identity authent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136880" y="6232680"/>
            <a:ext cx="384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* Codified in OMB Memorandum 04-0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52E0F-DF0F-49EC-BD82-F426B0D16DD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E-Authentication LOA and What They Service**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little or no risk of harm from fraud, hacking; low ri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ith risk of some harm from fraud, hacking; some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ignificant harm from fraud, hacking; significant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line applications where there is risk of substantial harm from fraud, hacking; substantial r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1523880"/>
            <a:ext cx="2971800" cy="99072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743200"/>
            <a:ext cx="2971800" cy="9907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886200"/>
            <a:ext cx="2971800" cy="990720"/>
          </a:xfrm>
          <a:prstGeom prst="rect">
            <a:avLst/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990720" y="5105520"/>
            <a:ext cx="2971800" cy="99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vel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196880" y="6324480"/>
            <a:ext cx="29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ffffff"/>
                </a:solidFill>
                <a:latin typeface="Arial"/>
              </a:rPr>
              <a:t>** Codified in NIST SP 800-6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6D2B-AB29-495A-B679-83D12A64C6B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General Considerations for Determining LOA of an Electronic Identity Credential (EI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Proof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sure are you that the person is who he or she claims to 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ty Bind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2e3861"/>
                </a:solidFill>
                <a:latin typeface="Arial"/>
              </a:rPr>
              <a:t>how sure are you that the person proffering the EIC is the person to whom the credential was issu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dential integri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ow well does the technology and its implementation resist hacking, fraud, etc.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EB64-826B-443F-9C62-A027192F6D3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Lower-Level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1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UserID/Password, SAML assertion (XML tex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2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3200" spc="-1" strike="noStrike">
                <a:solidFill>
                  <a:srgbClr val="b9252e"/>
                </a:solidFill>
                <a:latin typeface="Arial"/>
              </a:rPr>
              <a:t>“High entropy” UserID/Password; “policy-lite” PKI, e.g., Fed PKI Citizen and Commerce Class &amp; Federal PKI Rudimentary, TAGPMA Classic Plus (in develop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B1D54-338A-4799-96F8-13287CA073B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Summary of Cryptographic-Based Identity Credential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3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One-time Password; Substantial assurance PKI at FPKI Basic, Medi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evel 4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b9252e"/>
                </a:solidFill>
                <a:latin typeface="Arial"/>
              </a:rPr>
              <a:t>High assurance PKI at FPKI Medium Hardware, Hig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D3A5E-C290-45CA-B3DD-42772EF8D165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Arial"/>
              </a:rPr>
              <a:t>A Little Compl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government has TWO LOA classifica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2e38c5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e38c5"/>
                </a:solidFill>
                <a:latin typeface="Arial"/>
              </a:rPr>
              <a:t>Federal PKI LOA codified in the Certificate Policies of the Federal PKI Policy Autho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b9252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9252e"/>
                </a:solidFill>
                <a:latin typeface="Arial"/>
              </a:rPr>
              <a:t>E-Authentication LOA codified in OMB M-04-0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EFC0-DC9E-40D3-B196-9CFC999B547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5T21:23:14Z</dcterms:created>
  <dc:creator>Peter Alterman</dc:creator>
  <dc:description/>
  <dc:language>en-US</dc:language>
  <cp:lastModifiedBy>altermap</cp:lastModifiedBy>
  <dcterms:modified xsi:type="dcterms:W3CDTF">2007-01-08T14:50:37Z</dcterms:modified>
  <cp:revision>58</cp:revision>
  <dc:subject/>
  <dc:title>Slide 1</dc:title>
</cp:coreProperties>
</file>