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272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180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hdr"/>
          </p:nvPr>
        </p:nvSpPr>
        <p:spPr>
          <a:xfrm>
            <a:off x="-36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dt" idx="4"/>
          </p:nvPr>
        </p:nvSpPr>
        <p:spPr>
          <a:xfrm>
            <a:off x="4398480" y="-360"/>
            <a:ext cx="3367080" cy="49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ftr" idx="5"/>
          </p:nvPr>
        </p:nvSpPr>
        <p:spPr>
          <a:xfrm>
            <a:off x="-36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 type="sldNum" idx="6"/>
          </p:nvPr>
        </p:nvSpPr>
        <p:spPr>
          <a:xfrm>
            <a:off x="4398480" y="9555120"/>
            <a:ext cx="336708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ED9B4-CF56-4F76-9833-3EA1583691B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hslf/" TargetMode="External"/><Relationship Id="rId2" Type="http://schemas.openxmlformats.org/officeDocument/2006/relationships/slide" Target="../slides/slide1.xml"/><Relationship Id="rId3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am th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Luxi Sans"/>
                <a:ea typeface="Luxi Sans"/>
              </a:rPr>
              <a:t>I link to </a:t>
            </a:r>
            <a:r>
              <a:rPr b="0" lang="en-GB" sz="20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hslf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10960" indent="0">
              <a:lnSpc>
                <a:spcPct val="102000"/>
              </a:lnSpc>
              <a:buNone/>
              <a:tabLst>
                <a:tab algn="l" pos="0"/>
                <a:tab algn="l" pos="210960"/>
                <a:tab algn="l" pos="668160"/>
                <a:tab algn="l" pos="1125360"/>
                <a:tab algn="l" pos="1582560"/>
                <a:tab algn="l" pos="2039760"/>
                <a:tab algn="l" pos="2496960"/>
                <a:tab algn="l" pos="2954160"/>
                <a:tab algn="l" pos="3411360"/>
                <a:tab algn="l" pos="3868560"/>
                <a:tab algn="l" pos="4325760"/>
                <a:tab algn="l" pos="4782960"/>
                <a:tab algn="l" pos="5240160"/>
                <a:tab algn="l" pos="5697360"/>
                <a:tab algn="l" pos="6154560"/>
                <a:tab algn="l" pos="6611760"/>
                <a:tab algn="l" pos="7068960"/>
                <a:tab algn="l" pos="7526160"/>
                <a:tab algn="l" pos="7983360"/>
                <a:tab algn="l" pos="8440560"/>
                <a:tab algn="l" pos="8897760"/>
                <a:tab algn="l" pos="9354960"/>
                <a:tab algn="l" pos="9601200"/>
                <a:tab algn="l" pos="10058400"/>
                <a:tab algn="l" pos="105156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71600" y="763560"/>
            <a:ext cx="5027760" cy="377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32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924A-3050-4404-900B-83C678D2A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5639E-0ECB-4610-9F83-92961973D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592C-439C-4CED-BDE7-84C9B5BDD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832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4000"/>
            <a:ext cx="2919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97CE2-AC2F-445A-9E12-80689B6B2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1865E-51AC-4695-A59D-8A5F7F49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CCF-124F-4AAB-9782-FB4959266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2A0E-E80A-43BF-BEB9-AE9AD539F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A3795-D16E-449F-B1F0-F06C104FB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8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6FB2-5A4D-46EF-815A-DF3D80C52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AC2C-B37C-41DA-BD4E-C324D1339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400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B8CD-9187-4286-8B55-34150398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8320"/>
            <a:ext cx="44240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4000"/>
            <a:ext cx="90662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08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EDB81-3C8C-404B-84C5-F7D45704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8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Luxi San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6960" indent="-32220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858960" indent="-28584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2" marL="129060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3" marL="1722600" indent="-21132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4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5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6" marL="2154240" indent="-212760">
              <a:lnSpc>
                <a:spcPct val="108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Luxi San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3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080"/>
            <a:ext cx="31892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080"/>
            <a:ext cx="234144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16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CF3738-7B92-49F4-A877-BFBEA8CC812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" TargetMode="External"/><Relationship Id="rId2" Type="http://schemas.openxmlformats.org/officeDocument/2006/relationships/hyperlink" Target="http://slashdot.org/" TargetMode="External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jakarta.apache.org/poi/hssf/" TargetMode="External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2360" cy="117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the title of the first page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2360" cy="490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This page has two links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1"/>
              </a:rPr>
              <a:t>http://jakarta.apache.org/poi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ea typeface="Luxi Sans"/>
                <a:hlinkClick r:id="rId2"/>
              </a:rPr>
              <a:t>http://slashdot.org/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lvl="1" marL="426960" indent="0" algn="ctr">
              <a:lnSpc>
                <a:spcPct val="102000"/>
              </a:lnSpc>
              <a:buNone/>
              <a:tabLst>
                <a:tab algn="l" pos="0"/>
                <a:tab algn="l" pos="426960"/>
                <a:tab algn="l" pos="884160"/>
                <a:tab algn="l" pos="1341360"/>
                <a:tab algn="l" pos="1798560"/>
                <a:tab algn="l" pos="2255760"/>
                <a:tab algn="l" pos="2712960"/>
                <a:tab algn="l" pos="3170160"/>
                <a:tab algn="l" pos="3627360"/>
                <a:tab algn="l" pos="4084560"/>
                <a:tab algn="l" pos="4541760"/>
                <a:tab algn="l" pos="4998960"/>
                <a:tab algn="l" pos="5456160"/>
                <a:tab algn="l" pos="5913360"/>
                <a:tab algn="l" pos="6370560"/>
                <a:tab algn="l" pos="6827760"/>
                <a:tab algn="l" pos="7284960"/>
                <a:tab algn="l" pos="7742160"/>
                <a:tab algn="l" pos="8199360"/>
                <a:tab algn="l" pos="8656560"/>
                <a:tab algn="l" pos="9113760"/>
                <a:tab algn="l" pos="957096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  <a:ea typeface="Luxi Sans"/>
              </a:rPr>
              <a:t>In addition, its notes has one link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2920" y="345960"/>
            <a:ext cx="9070920" cy="117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Luxi Sans"/>
              </a:rPr>
              <a:t>I am page two</a:t>
            </a:r>
            <a:endParaRPr b="0" lang="en-US" sz="4400" spc="-1" strike="noStrike">
              <a:solidFill>
                <a:srgbClr val="000000"/>
              </a:solidFill>
              <a:latin typeface="Luxi San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502920" y="1812960"/>
            <a:ext cx="9070920" cy="489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Luxi Sans"/>
              </a:rPr>
              <a:t>I have the one link: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  <a:p>
            <a:pPr indent="0" algn="ctr">
              <a:lnSpc>
                <a:spcPct val="10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Luxi Sans"/>
                <a:hlinkClick r:id="rId1"/>
              </a:rPr>
              <a:t>Jakarta HSSF</a:t>
            </a:r>
            <a:endParaRPr b="0" lang="en-US" sz="3200" spc="-1" strike="noStrike">
              <a:solidFill>
                <a:srgbClr val="000000"/>
              </a:solidFill>
              <a:latin typeface="Luxi Sans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